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move the slid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23127-3DAF-458F-8815-EC60A723138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0003C-3727-4BFE-B996-6F805818A9BE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1DB46-8DFB-453F-9408-AF292746FCB3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3A3B0-8711-45C1-8B90-3CE548B4D99C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C6588-E602-412E-8821-E6E7536FA695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A13F1-6CFC-48F5-80F1-91AC2CC88857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B4833-ED6C-454C-A86C-3C9BC9232E30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DDEFF-1BC7-47B5-81D9-D6650B07236C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7EFFC-7524-4EFD-A981-7CFC6865D99E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8B93A-1D98-40AF-8D5F-C958C2CB7B7F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1CC83-6455-48C1-9CAF-B34D1D7C08DD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2E287-3F6E-4E8D-9031-04E9B3C44A1B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32216-FCFA-4EC0-BEBC-368160132915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8D794-C201-46DA-B214-30821F8F021A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C854B-FF2C-4665-B1F1-102D63933236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C8FEC-13C4-4187-819D-FEF67004B3A6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2998F-0FE4-43B0-A796-C53F288040AC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7063C-E5BF-44D6-8FCD-544F1D4CB53F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485F2-624A-4F91-BF44-49EF14BDF4FB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739A9-1D9C-47F5-AEE8-6032D1010D95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CB2CA-E370-4008-980C-3CFFB79EE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429AA-4F5B-4F3E-A43F-75D22E607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17136-6D0B-40E5-A523-1B358C764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BFD1E-9BA3-4581-A42D-F492E4CE8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8415B-8689-412F-B779-0DC5876CC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A8BFF-95BF-4747-9191-6EE3D881A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1C606-C5B1-4F95-8B24-88E6B34D1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527A9-4FB3-40F8-AE11-94C1C4680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3974C-563D-4B8A-A37C-4763B3BAF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F76A4-6577-4D6E-85E1-7B6245BC8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58C36-D63A-44BC-BA2B-AEC09C698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5DA0F-A447-4D43-B564-09B579289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4ABF2-88F1-4016-B60C-23064FC92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76CF3-297F-4B4D-9378-4D2F8C0A9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C89D9-4B76-4D72-AF0B-B2AC6C2C7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5DF72-3727-44B9-BBC7-E9EA051C7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C194D-312A-441C-B748-0A991DCF2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0FB364-1183-49AD-ACC8-9444D5EB5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6A9972-50DF-4F2E-BCC0-7313517C1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EC7E6F-A46F-4671-8ED9-8559355C4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75A016-F063-4A99-AD23-2D5CE0EEE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F30092-D441-4C04-8D55-2640BE2FC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10AA1-1EE6-4CFA-9640-BE4B463BE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C28162-578E-418B-8FFD-D42965D30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3B77FD-DE36-4FE9-8CEA-13B60A64A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2FABE3-CCBA-43CA-86BB-FE517BC50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388ABA-79EE-4ED7-BD58-E5450969E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83AE88-B5B5-47B5-B2ED-492A868B7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B5CBDE-8681-406D-96B5-5961CE074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635828-D8EE-45F2-8D4C-F88CDDE22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BE7EDC-76D0-4C8C-ADE6-2C124EE1A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F4E8FF-790D-4A75-B948-A0E1FA0B5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11C9D7-2DAB-4D5C-961C-36BA45ACD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B39E1-DC28-40E7-8CBD-BCDAC54A8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525AE1-C7DD-440D-8B08-89C5B43B7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0A0411-69A1-4CAA-9BF0-7741CC2A2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C3B9FB-0217-4F9D-90BE-F5109F117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66A44C-AD27-4D19-A3E1-EC6906854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E40470-FC98-4A7E-B26B-269DE3922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A12E31-3F5F-4881-94F9-F5EDF399A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76CCF2-788D-4526-9FFB-928483DE7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3CCBC1-BB41-47D1-9360-6B603FF37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B9AB08-1F88-40AD-8DE5-7267A2B57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968FA4-8764-4BBE-BC3A-4BD86460D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96A9B-3E3C-4E6B-9023-4B4C6F2A2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E28399-2AD3-46CE-BDB5-A4AB371CE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8AE067-5AA1-4A6B-AC2C-8C7664C33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4AEA8D-7AA0-4779-BE08-243CB8D5E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182994-4CEA-49A2-9841-515A11A49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CECD44-7A43-4DB3-AA18-C79484D12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A2B302-2310-475B-ABF4-35353E61D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E9D6B5-3455-4B28-A10E-AABBFEACB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358A9A-ABD3-4AA8-BBBF-4522EF410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18AAC8-1AD9-4B95-88EE-867C671EA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F4642C-3678-4226-B561-512035180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BAB01-526F-4A8B-83CB-8B2D34B8D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213678-A15E-443F-9FE5-340F233E6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C5BF9E-C5D7-4CD6-A7E0-FE144B902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3FCAFE-5746-461B-AE25-2CEA8FD47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06EA9C-FB15-4E27-AD01-37331BA91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901B1B-9DE5-4873-962E-E1762E516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EFEC57-6C0A-4A4E-8226-95BC667C2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FEC067-5D8F-499F-A8D9-7859E5D00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AD3D61-E4C1-4234-87F3-507F63789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0F559F-43DB-476C-B770-A298B5F40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34EEF6-8547-4B04-91DD-1FF452B30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D565F-8F36-4ED0-B16A-34397FF11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FF6D40-AFED-4645-9234-58C15C3D0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E6131B-81B3-4805-BB7A-1DBC0D5D5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CD5298-086A-4A8E-BD71-582E33DA5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6218D-D119-4F20-9664-B8E65149E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BB8AC-5D81-4511-8D3D-88B368B36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олилиния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A7528-68C0-4A2F-815B-ADC98D8600BC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олилиния 10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Полилиния 12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F91CD-BA97-44A1-A061-DB661F9FFADE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олилиния 10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Полилиния 12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D131D-F217-4139-B070-B43486652501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30128-E95B-453A-80C9-F569C3B84531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Полилиния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Полилиния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4F630-162E-43C2-9A28-783B1BAB09C3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71E8C-1D88-4043-9C16-C12776F6B92F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3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3960360" y="4976280"/>
            <a:ext cx="501660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0" bIns="0" anchor="b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Выполнили ученики 10«Б» класса: Коданёв Паша, Мишарина Наташа, Кирушев Саша, Панюкова Марина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роверила учитель по математике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Яна Валерьевна Елфимов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87440" y="2938320"/>
            <a:ext cx="814392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 чём сходство и различие тригонометрических функций?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2271600" y="2771640"/>
            <a:ext cx="454356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Проблемный вопрос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444600" y="4330800"/>
            <a:ext cx="3097080" cy="232236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2"/>
          <a:stretch/>
        </p:blipFill>
        <p:spPr>
          <a:xfrm>
            <a:off x="187200" y="115920"/>
            <a:ext cx="1814760" cy="165744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 txBox="1"/>
          <p:nvPr/>
        </p:nvSpPr>
        <p:spPr>
          <a:xfrm rot="21225600">
            <a:off x="127080" y="1009440"/>
            <a:ext cx="8861400" cy="1285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Учебный проект на тему: Ты, я и тригонометрия.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advTm="3000">
    <p:cut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Заголовок 1" descr=""/>
          <p:cNvPicPr/>
          <p:nvPr/>
        </p:nvPicPr>
        <p:blipFill>
          <a:blip r:embed="rId1"/>
          <a:stretch/>
        </p:blipFill>
        <p:spPr>
          <a:xfrm>
            <a:off x="1066680" y="-122400"/>
            <a:ext cx="8278920" cy="2109960"/>
          </a:xfrm>
          <a:prstGeom prst="rect">
            <a:avLst/>
          </a:prstGeom>
          <a:ln w="0">
            <a:noFill/>
          </a:ln>
        </p:spPr>
      </p:pic>
      <p:sp>
        <p:nvSpPr>
          <p:cNvPr id="332" name="PlaceHolder 1"/>
          <p:cNvSpPr>
            <a:spLocks noGrp="1"/>
          </p:cNvSpPr>
          <p:nvPr>
            <p:ph type="subTitle"/>
          </p:nvPr>
        </p:nvSpPr>
        <p:spPr>
          <a:xfrm>
            <a:off x="428400" y="2285640"/>
            <a:ext cx="8429400" cy="31431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0" bIns="0" anchor="b">
            <a:noAutofit/>
          </a:bodyPr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262626"/>
                </a:solidFill>
                <a:uFillTx/>
                <a:latin typeface="Arial"/>
              </a:rPr>
              <a:t>Определение.</a:t>
            </a:r>
            <a:r>
              <a:rPr b="0" lang="ru-RU" sz="2000" spc="-1" strike="noStrike">
                <a:solidFill>
                  <a:srgbClr val="262626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тношение синуса числа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к косинусу того же числа называют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тангенсом числа </a:t>
            </a:r>
            <a:r>
              <a:rPr b="1" i="1" lang="en-US" sz="2000" spc="-1" strike="noStrike">
                <a:solidFill>
                  <a:srgbClr val="ffff00"/>
                </a:solidFill>
                <a:latin typeface="Arial"/>
              </a:rPr>
              <a:t>t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 обозначают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g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262626"/>
                </a:solidFill>
                <a:uFillTx/>
                <a:latin typeface="Arial"/>
              </a:rPr>
              <a:t>Определение.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тношение косинуса числа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к синусу того же числа называют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котангенсом числа </a:t>
            </a:r>
            <a:r>
              <a:rPr b="1" i="1" lang="en-US" sz="2000" spc="-1" strike="noStrike">
                <a:solidFill>
                  <a:srgbClr val="ffff00"/>
                </a:solidFill>
                <a:latin typeface="Arial"/>
              </a:rPr>
              <a:t>t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 обозначают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tg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33" name=""/>
          <p:cNvGraphicFramePr/>
          <p:nvPr/>
        </p:nvGraphicFramePr>
        <p:xfrm>
          <a:off x="2214720" y="3500280"/>
          <a:ext cx="4619520" cy="428760"/>
        </p:xfrm>
        <a:graphic>
          <a:graphicData uri="http://schemas.openxmlformats.org/drawingml/2006/table">
            <a:tbl>
              <a:tblPr/>
              <a:tblGrid>
                <a:gridCol w="461952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g </a:t>
                      </a: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= sin </a:t>
                      </a: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/ cos </a:t>
                      </a: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,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где </a:t>
                      </a: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≠ 0,5</a:t>
                      </a:r>
                      <a:r>
                        <a:rPr b="1" lang="el-GR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π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+ </a:t>
                      </a:r>
                      <a:r>
                        <a:rPr b="1" lang="el-GR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π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, k 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є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Z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e848d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34" name=""/>
          <p:cNvGraphicFramePr/>
          <p:nvPr/>
        </p:nvGraphicFramePr>
        <p:xfrm>
          <a:off x="2286000" y="4857840"/>
          <a:ext cx="4572000" cy="428400"/>
        </p:xfrm>
        <a:graphic>
          <a:graphicData uri="http://schemas.openxmlformats.org/drawingml/2006/table">
            <a:tbl>
              <a:tblPr/>
              <a:tblGrid>
                <a:gridCol w="4572000"/>
              </a:tblGrid>
              <a:tr h="42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tg </a:t>
                      </a: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= cos </a:t>
                      </a: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/ sin </a:t>
                      </a: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,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где </a:t>
                      </a: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≠ </a:t>
                      </a:r>
                      <a:r>
                        <a:rPr b="1" lang="el-GR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π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, k 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є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Z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e848d"/>
                    </a:solidFill>
                  </a:tcPr>
                </a:tc>
              </a:tr>
            </a:tbl>
          </a:graphicData>
        </a:graphic>
      </p:graphicFrame>
    </p:spTree>
  </p:cSld>
  <p:transition advTm="3000">
    <p:wheel spokes="1"/>
  </p:transition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4" dur="500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7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2" dur="500"/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5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Заголовок 1" descr=""/>
          <p:cNvPicPr/>
          <p:nvPr/>
        </p:nvPicPr>
        <p:blipFill>
          <a:blip r:embed="rId1"/>
          <a:stretch/>
        </p:blipFill>
        <p:spPr>
          <a:xfrm>
            <a:off x="1066680" y="-122400"/>
            <a:ext cx="8278920" cy="2109960"/>
          </a:xfrm>
          <a:prstGeom prst="rect">
            <a:avLst/>
          </a:prstGeom>
          <a:ln w="0">
            <a:noFill/>
          </a:ln>
        </p:spPr>
      </p:pic>
      <p:sp>
        <p:nvSpPr>
          <p:cNvPr id="336" name="PlaceHolder 1"/>
          <p:cNvSpPr>
            <a:spLocks noGrp="1"/>
          </p:cNvSpPr>
          <p:nvPr>
            <p:ph type="subTitle"/>
          </p:nvPr>
        </p:nvSpPr>
        <p:spPr>
          <a:xfrm>
            <a:off x="713880" y="2071800"/>
            <a:ext cx="7858440" cy="264312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0" bIns="0" anchor="b">
            <a:noAutofit/>
          </a:bodyPr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262626"/>
                </a:solidFill>
                <a:uFillTx/>
                <a:latin typeface="Arial"/>
              </a:rPr>
              <a:t>Свойство 1.</a:t>
            </a:r>
            <a:r>
              <a:rPr b="0" lang="ru-RU" sz="2000" spc="-1" strike="noStrike">
                <a:solidFill>
                  <a:srgbClr val="262626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ля любого допустимого значения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справедливы равенства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262626"/>
                </a:solidFill>
                <a:uFillTx/>
                <a:latin typeface="Arial"/>
              </a:rPr>
              <a:t>Свойство 2.</a:t>
            </a:r>
            <a:r>
              <a:rPr b="0" lang="ru-RU" sz="2000" spc="-1" strike="noStrike">
                <a:solidFill>
                  <a:srgbClr val="262626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ля любого допустимого значения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праведливы равенства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37" name=""/>
          <p:cNvGraphicFramePr/>
          <p:nvPr/>
        </p:nvGraphicFramePr>
        <p:xfrm>
          <a:off x="3571920" y="2857680"/>
          <a:ext cx="2071800" cy="639720"/>
        </p:xfrm>
        <a:graphic>
          <a:graphicData uri="http://schemas.openxmlformats.org/drawingml/2006/table">
            <a:tbl>
              <a:tblPr/>
              <a:tblGrid>
                <a:gridCol w="20718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g (-</a:t>
                      </a: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) = -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g </a:t>
                      </a: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;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tg (-</a:t>
                      </a: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) = -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tg </a:t>
                      </a: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e848d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38" name=""/>
          <p:cNvGraphicFramePr/>
          <p:nvPr/>
        </p:nvGraphicFramePr>
        <p:xfrm>
          <a:off x="3571920" y="4143240"/>
          <a:ext cx="2071800" cy="714600"/>
        </p:xfrm>
        <a:graphic>
          <a:graphicData uri="http://schemas.openxmlformats.org/drawingml/2006/table">
            <a:tbl>
              <a:tblPr/>
              <a:tblGrid>
                <a:gridCol w="2071800"/>
              </a:tblGrid>
              <a:tr h="714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g (</a:t>
                      </a: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+ π) = tg</a:t>
                      </a: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t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;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tg (</a:t>
                      </a: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+ π) = ctg </a:t>
                      </a: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e848d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39" name=""/>
          <p:cNvGraphicFramePr/>
          <p:nvPr/>
        </p:nvGraphicFramePr>
        <p:xfrm>
          <a:off x="3000240" y="5214960"/>
          <a:ext cx="3476880" cy="669960"/>
        </p:xfrm>
        <a:graphic>
          <a:graphicData uri="http://schemas.openxmlformats.org/drawingml/2006/table">
            <a:tbl>
              <a:tblPr/>
              <a:tblGrid>
                <a:gridCol w="3476880"/>
              </a:tblGrid>
              <a:tr h="673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g (</a:t>
                      </a: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+ </a:t>
                      </a:r>
                      <a:r>
                        <a:rPr b="1" lang="el-GR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π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) = tg </a:t>
                      </a: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;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tg (</a:t>
                      </a: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</a:t>
                      </a:r>
                      <a:r>
                        <a:rPr b="1" i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+ </a:t>
                      </a:r>
                      <a:r>
                        <a:rPr b="1" lang="el-GR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π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) = ctg</a:t>
                      </a: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t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,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где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k 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є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.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e848d"/>
                    </a:solidFill>
                  </a:tcPr>
                </a:tc>
              </a:tr>
            </a:tbl>
          </a:graphicData>
        </a:graphic>
      </p:graphicFrame>
    </p:spTree>
  </p:cSld>
  <p:transition advTm="3000">
    <p:wheel spokes="1"/>
  </p:transition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2" dur="500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5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0" dur="500"/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3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6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Заголовок 1" descr=""/>
          <p:cNvPicPr/>
          <p:nvPr/>
        </p:nvPicPr>
        <p:blipFill>
          <a:blip r:embed="rId1"/>
          <a:stretch/>
        </p:blipFill>
        <p:spPr>
          <a:xfrm>
            <a:off x="1066680" y="-122400"/>
            <a:ext cx="8278920" cy="2109960"/>
          </a:xfrm>
          <a:prstGeom prst="rect">
            <a:avLst/>
          </a:prstGeom>
          <a:ln w="0">
            <a:noFill/>
          </a:ln>
        </p:spPr>
      </p:pic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357120" y="1571400"/>
            <a:ext cx="842976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0" bIns="0" anchor="b">
            <a:noAutofit/>
          </a:bodyPr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262626"/>
                </a:solidFill>
                <a:uFillTx/>
                <a:latin typeface="Arial"/>
              </a:rPr>
              <a:t>Определение.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Тригонометрические функции числового аргумента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– функции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y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n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y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s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y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g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y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tg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bfbfbf"/>
                </a:solidFill>
                <a:uFillTx/>
                <a:latin typeface="Arial"/>
              </a:rPr>
              <a:t>Основные соотношения, связывающие значения различных тригонометрических функций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2286000" y="4143240"/>
          <a:ext cx="4976640" cy="1260720"/>
        </p:xfrm>
        <a:graphic>
          <a:graphicData uri="http://schemas.openxmlformats.org/drawingml/2006/table">
            <a:tbl>
              <a:tblPr/>
              <a:tblGrid>
                <a:gridCol w="4976640"/>
              </a:tblGrid>
              <a:tr h="126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n</a:t>
                      </a:r>
                      <a:r>
                        <a:rPr b="1" lang="en-US" sz="18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</a:t>
                      </a:r>
                      <a:r>
                        <a:rPr b="1" i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+ cos</a:t>
                      </a:r>
                      <a:r>
                        <a:rPr b="1" lang="en-US" sz="18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t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= 1;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g </a:t>
                      </a: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* ctg t = 1,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где </a:t>
                      </a: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≠ πk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;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 + tg</a:t>
                      </a:r>
                      <a:r>
                        <a:rPr b="1" lang="en-US" sz="18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= 1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s</a:t>
                      </a:r>
                      <a:r>
                        <a:rPr b="1" lang="en-US" sz="18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,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где</a:t>
                      </a:r>
                      <a:r>
                        <a:rPr b="1" i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 </a:t>
                      </a:r>
                      <a:r>
                        <a:rPr b="1" i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≠ 0,5π + πk, k є Z;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 + ctg</a:t>
                      </a:r>
                      <a:r>
                        <a:rPr b="1" lang="en-US" sz="18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= 1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n</a:t>
                      </a:r>
                      <a:r>
                        <a:rPr b="1" lang="en-US" sz="18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,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где </a:t>
                      </a: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</a:t>
                      </a:r>
                      <a:r>
                        <a:rPr b="1" i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≠ πk, k є Z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e848d"/>
                    </a:solidFill>
                  </a:tcPr>
                </a:tc>
              </a:tr>
            </a:tbl>
          </a:graphicData>
        </a:graphic>
      </p:graphicFrame>
    </p:spTree>
  </p:cSld>
  <p:transition advTm="3000">
    <p:wheel spokes="1"/>
  </p:transition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3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8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1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Заголовок 1" descr=""/>
          <p:cNvPicPr/>
          <p:nvPr/>
        </p:nvPicPr>
        <p:blipFill>
          <a:blip r:embed="rId1"/>
          <a:stretch/>
        </p:blipFill>
        <p:spPr>
          <a:xfrm>
            <a:off x="1066680" y="-122400"/>
            <a:ext cx="8278920" cy="2109960"/>
          </a:xfrm>
          <a:prstGeom prst="rect">
            <a:avLst/>
          </a:prstGeom>
          <a:ln w="0">
            <a:noFill/>
          </a:ln>
        </p:spPr>
      </p:pic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713880" y="1928880"/>
            <a:ext cx="7853400" cy="10713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0" bIns="0" anchor="b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262626"/>
                </a:solidFill>
                <a:uFillTx/>
                <a:latin typeface="Arial"/>
              </a:rPr>
              <a:t>Определение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Линию, служащую графиком функции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y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n x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, называют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синусоидой</a:t>
            </a: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.</a:t>
            </a:r>
            <a:r>
              <a:rPr b="1" i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5" name="Chart 1" descr=""/>
          <p:cNvPicPr/>
          <p:nvPr/>
        </p:nvPicPr>
        <p:blipFill>
          <a:blip r:embed="rId2"/>
          <a:stretch/>
        </p:blipFill>
        <p:spPr>
          <a:xfrm>
            <a:off x="633240" y="2852640"/>
            <a:ext cx="8517240" cy="3603600"/>
          </a:xfrm>
          <a:prstGeom prst="rect">
            <a:avLst/>
          </a:prstGeom>
          <a:ln w="0">
            <a:noFill/>
          </a:ln>
        </p:spPr>
      </p:pic>
      <p:pic>
        <p:nvPicPr>
          <p:cNvPr id="346" name="Chart 1" descr=""/>
          <p:cNvPicPr/>
          <p:nvPr/>
        </p:nvPicPr>
        <p:blipFill>
          <a:blip r:embed="rId3"/>
          <a:stretch/>
        </p:blipFill>
        <p:spPr>
          <a:xfrm>
            <a:off x="615960" y="2828880"/>
            <a:ext cx="8686800" cy="3541680"/>
          </a:xfrm>
          <a:prstGeom prst="rect">
            <a:avLst/>
          </a:prstGeom>
          <a:ln w="0">
            <a:noFill/>
          </a:ln>
        </p:spPr>
      </p:pic>
      <p:sp>
        <p:nvSpPr>
          <p:cNvPr id="347" name="TextBox 6"/>
          <p:cNvSpPr/>
          <p:nvPr/>
        </p:nvSpPr>
        <p:spPr>
          <a:xfrm>
            <a:off x="7988400" y="46735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l-GR" sz="1800" spc="-1" strike="noStrike">
                <a:solidFill>
                  <a:srgbClr val="ffffff"/>
                </a:solidFill>
                <a:latin typeface="Arial"/>
              </a:rPr>
              <a:t>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TextBox 7"/>
          <p:cNvSpPr/>
          <p:nvPr/>
        </p:nvSpPr>
        <p:spPr>
          <a:xfrm>
            <a:off x="2971800" y="4648320"/>
            <a:ext cx="54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l-GR" sz="1800" spc="-1" strike="noStrike">
                <a:solidFill>
                  <a:srgbClr val="ffffff"/>
                </a:solidFill>
                <a:latin typeface="Arial"/>
              </a:rPr>
              <a:t>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TextBox 8"/>
          <p:cNvSpPr/>
          <p:nvPr/>
        </p:nvSpPr>
        <p:spPr>
          <a:xfrm>
            <a:off x="6375240" y="4635360"/>
            <a:ext cx="54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Arial"/>
              </a:rPr>
              <a:t>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TextBox 9"/>
          <p:cNvSpPr/>
          <p:nvPr/>
        </p:nvSpPr>
        <p:spPr>
          <a:xfrm>
            <a:off x="1359000" y="4648320"/>
            <a:ext cx="62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2</a:t>
            </a:r>
            <a:r>
              <a:rPr b="0" lang="el-GR" sz="1800" spc="-1" strike="noStrike">
                <a:solidFill>
                  <a:srgbClr val="ffffff"/>
                </a:solidFill>
                <a:latin typeface="Arial"/>
              </a:rPr>
              <a:t>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3000">
    <p:wheel spokes="1"/>
  </p:transition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8" dur="500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5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1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1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1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Заголовок 1" descr=""/>
          <p:cNvPicPr/>
          <p:nvPr/>
        </p:nvPicPr>
        <p:blipFill>
          <a:blip r:embed="rId1"/>
          <a:stretch/>
        </p:blipFill>
        <p:spPr>
          <a:xfrm>
            <a:off x="1066680" y="-122400"/>
            <a:ext cx="8278920" cy="2530800"/>
          </a:xfrm>
          <a:prstGeom prst="rect">
            <a:avLst/>
          </a:prstGeom>
          <a:ln w="0">
            <a:noFill/>
          </a:ln>
        </p:spPr>
      </p:pic>
      <p:sp>
        <p:nvSpPr>
          <p:cNvPr id="352" name="PlaceHolder 1"/>
          <p:cNvSpPr>
            <a:spLocks noGrp="1"/>
          </p:cNvSpPr>
          <p:nvPr>
            <p:ph type="subTitle"/>
          </p:nvPr>
        </p:nvSpPr>
        <p:spPr>
          <a:xfrm>
            <a:off x="142920" y="1857240"/>
            <a:ext cx="878688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0" bIns="0" anchor="b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262626"/>
                </a:solidFill>
                <a:uFillTx/>
                <a:latin typeface="Arial"/>
              </a:rPr>
              <a:t>Свойство 1.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y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) = (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∞;+∞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262626"/>
                </a:solidFill>
                <a:uFillTx/>
                <a:latin typeface="Arial"/>
              </a:rPr>
              <a:t>Свойство 2.</a:t>
            </a:r>
            <a:r>
              <a:rPr b="0" lang="ru-RU" sz="2000" spc="-1" strike="noStrike">
                <a:solidFill>
                  <a:srgbClr val="26262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y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n x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– нечетная функц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262626"/>
                </a:solidFill>
                <a:uFillTx/>
                <a:latin typeface="Arial"/>
              </a:rPr>
              <a:t>Свойство 3.</a:t>
            </a:r>
            <a:r>
              <a:rPr b="0" lang="ru-RU" sz="2000" spc="-1" strike="noStrike">
                <a:solidFill>
                  <a:srgbClr val="262626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Функция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y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n x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убывает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а отрезке [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π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/2+2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π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;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π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/2 + 2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π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] и возрастает на отрезке [π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/2 + 2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π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;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π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/2 + 2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π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]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де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є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Z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262626"/>
                </a:solidFill>
                <a:uFillTx/>
                <a:latin typeface="Arial"/>
              </a:rPr>
              <a:t>Свойство 4.</a:t>
            </a:r>
            <a:r>
              <a:rPr b="0" lang="ru-RU" sz="2000" spc="-1" strike="noStrike">
                <a:solidFill>
                  <a:srgbClr val="262626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Функция ограничена и сверху и снизу (-1 ≤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n t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≤ 1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262626"/>
                </a:solidFill>
                <a:uFillTx/>
                <a:latin typeface="Arial"/>
              </a:rPr>
              <a:t>Свойство 5.</a:t>
            </a:r>
            <a:r>
              <a:rPr b="1" i="1" lang="ru-RU" sz="2000" spc="-1" strike="noStrike">
                <a:solidFill>
                  <a:srgbClr val="26262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y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Arial"/>
              </a:rPr>
              <a:t>наим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= -1;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y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Arial"/>
              </a:rPr>
              <a:t>наиб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= 1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262626"/>
                </a:solidFill>
                <a:uFillTx/>
                <a:latin typeface="Arial"/>
              </a:rPr>
              <a:t>Свойство 6.</a:t>
            </a:r>
            <a:r>
              <a:rPr b="1" i="1" lang="ru-RU" sz="2000" spc="-1" strike="noStrike">
                <a:solidFill>
                  <a:srgbClr val="262626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Функция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y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n x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периодическая, ее основной период равен 2π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262626"/>
                </a:solidFill>
                <a:uFillTx/>
                <a:latin typeface="Arial"/>
              </a:rPr>
              <a:t>Свойство 7.</a:t>
            </a:r>
            <a:r>
              <a:rPr b="0" lang="ru-RU" sz="2000" spc="-1" strike="noStrike">
                <a:solidFill>
                  <a:srgbClr val="26262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y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n x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– непрерывная функц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262626"/>
                </a:solidFill>
                <a:uFillTx/>
                <a:latin typeface="Arial"/>
              </a:rPr>
              <a:t>Свойство 8.</a:t>
            </a:r>
            <a:r>
              <a:rPr b="0" lang="ru-RU" sz="2000" spc="-1" strike="noStrike">
                <a:solidFill>
                  <a:srgbClr val="26262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y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) = [-1;1]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262626"/>
                </a:solidFill>
                <a:uFillTx/>
                <a:latin typeface="Arial"/>
              </a:rPr>
              <a:t>Свойство 9.</a:t>
            </a:r>
            <a:r>
              <a:rPr b="0" lang="ru-RU" sz="2000" spc="-1" strike="noStrike">
                <a:solidFill>
                  <a:srgbClr val="262626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Функция выпукла вверх на отрезке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[0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+ 2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π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;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π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+ 2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π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],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ыпукла вниз на отрезке [π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+ 2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π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; 2π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+ 2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π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]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де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є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Z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3000">
    <p:wheel spokes="1"/>
  </p:transition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Заголовок 1" descr=""/>
          <p:cNvPicPr/>
          <p:nvPr/>
        </p:nvPicPr>
        <p:blipFill>
          <a:blip r:embed="rId1"/>
          <a:stretch/>
        </p:blipFill>
        <p:spPr>
          <a:xfrm>
            <a:off x="1066680" y="-122400"/>
            <a:ext cx="8278920" cy="2109960"/>
          </a:xfrm>
          <a:prstGeom prst="rect">
            <a:avLst/>
          </a:prstGeom>
          <a:ln w="0">
            <a:noFill/>
          </a:ln>
        </p:spPr>
      </p:pic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713880" y="1928880"/>
            <a:ext cx="7853400" cy="10713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0" bIns="0" anchor="b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262626"/>
                </a:solidFill>
                <a:uFillTx/>
                <a:latin typeface="Arial"/>
              </a:rPr>
              <a:t>Определение.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Линию, служащую графиком функции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y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s x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, называют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синусоидой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(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косинусоидой)</a:t>
            </a: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.</a:t>
            </a:r>
            <a:r>
              <a:rPr b="1" i="1" lang="ru-RU" sz="2000" spc="-1" strike="noStrike" u="sng">
                <a:solidFill>
                  <a:srgbClr val="ffff00"/>
                </a:solidFill>
                <a:uFillTx/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5" name="Chart 1" descr=""/>
          <p:cNvPicPr/>
          <p:nvPr/>
        </p:nvPicPr>
        <p:blipFill>
          <a:blip r:embed="rId2"/>
          <a:stretch/>
        </p:blipFill>
        <p:spPr>
          <a:xfrm>
            <a:off x="633240" y="2852640"/>
            <a:ext cx="8517240" cy="3603600"/>
          </a:xfrm>
          <a:prstGeom prst="rect">
            <a:avLst/>
          </a:prstGeom>
          <a:ln w="0">
            <a:noFill/>
          </a:ln>
        </p:spPr>
      </p:pic>
      <p:pic>
        <p:nvPicPr>
          <p:cNvPr id="356" name="Chart 1" descr=""/>
          <p:cNvPicPr/>
          <p:nvPr/>
        </p:nvPicPr>
        <p:blipFill>
          <a:blip r:embed="rId3"/>
          <a:stretch/>
        </p:blipFill>
        <p:spPr>
          <a:xfrm>
            <a:off x="152280" y="2419200"/>
            <a:ext cx="9156960" cy="4445280"/>
          </a:xfrm>
          <a:prstGeom prst="rect">
            <a:avLst/>
          </a:prstGeom>
          <a:ln w="0">
            <a:noFill/>
          </a:ln>
        </p:spPr>
      </p:pic>
      <p:sp>
        <p:nvSpPr>
          <p:cNvPr id="357" name="TextBox 5"/>
          <p:cNvSpPr/>
          <p:nvPr/>
        </p:nvSpPr>
        <p:spPr>
          <a:xfrm>
            <a:off x="3949560" y="4622760"/>
            <a:ext cx="63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l-GR" sz="1800" spc="-1" strike="noStrike">
                <a:solidFill>
                  <a:srgbClr val="ffffff"/>
                </a:solidFill>
                <a:latin typeface="Arial"/>
              </a:rPr>
              <a:t>π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TextBox 6"/>
          <p:cNvSpPr/>
          <p:nvPr/>
        </p:nvSpPr>
        <p:spPr>
          <a:xfrm>
            <a:off x="1968480" y="4597560"/>
            <a:ext cx="77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3</a:t>
            </a:r>
            <a:r>
              <a:rPr b="0" lang="el-GR" sz="1800" spc="-1" strike="noStrike">
                <a:solidFill>
                  <a:srgbClr val="ffffff"/>
                </a:solidFill>
                <a:latin typeface="Arial"/>
              </a:rPr>
              <a:t>π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TextBox 7"/>
          <p:cNvSpPr/>
          <p:nvPr/>
        </p:nvSpPr>
        <p:spPr>
          <a:xfrm>
            <a:off x="7188120" y="4610160"/>
            <a:ext cx="72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l-GR" sz="1800" spc="-1" strike="noStrike">
                <a:solidFill>
                  <a:srgbClr val="ffffff"/>
                </a:solidFill>
                <a:latin typeface="Arial"/>
              </a:rPr>
              <a:t>π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TextBox 8"/>
          <p:cNvSpPr/>
          <p:nvPr/>
        </p:nvSpPr>
        <p:spPr>
          <a:xfrm>
            <a:off x="5359320" y="4610160"/>
            <a:ext cx="63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Arial"/>
              </a:rPr>
              <a:t>π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3000">
    <p:wheel spokes="1"/>
  </p:transition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2" dur="500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1" dur="5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1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1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1">
                                  <p:stCondLst>
                                    <p:cond delay="310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Заголовок 1" descr=""/>
          <p:cNvPicPr/>
          <p:nvPr/>
        </p:nvPicPr>
        <p:blipFill>
          <a:blip r:embed="rId1"/>
          <a:stretch/>
        </p:blipFill>
        <p:spPr>
          <a:xfrm>
            <a:off x="1066680" y="-141120"/>
            <a:ext cx="8278920" cy="2530440"/>
          </a:xfrm>
          <a:prstGeom prst="rect">
            <a:avLst/>
          </a:prstGeom>
          <a:ln w="0">
            <a:noFill/>
          </a:ln>
        </p:spPr>
      </p:pic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142920" y="1916280"/>
            <a:ext cx="8786880" cy="472752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0" bIns="0" anchor="b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262626"/>
                </a:solidFill>
                <a:uFillTx/>
                <a:latin typeface="Arial"/>
              </a:rPr>
              <a:t>Свойство 1.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y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) = (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∞;+∞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262626"/>
                </a:solidFill>
                <a:uFillTx/>
                <a:latin typeface="Arial"/>
              </a:rPr>
              <a:t>Свойство 2.</a:t>
            </a:r>
            <a:r>
              <a:rPr b="0" lang="ru-RU" sz="2000" spc="-1" strike="noStrike">
                <a:solidFill>
                  <a:srgbClr val="26262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y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s x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–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четная функц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262626"/>
                </a:solidFill>
                <a:uFillTx/>
                <a:latin typeface="Arial"/>
              </a:rPr>
              <a:t>Свойство 3.</a:t>
            </a:r>
            <a:r>
              <a:rPr b="0" lang="ru-RU" sz="2000" spc="-1" strike="noStrike">
                <a:solidFill>
                  <a:srgbClr val="262626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Функция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y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s x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убывает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а отрезке [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π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;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π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+ 2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π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] и возрастает на отрезке [π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+ 2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π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;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π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+ 2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π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]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де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є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Z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262626"/>
                </a:solidFill>
                <a:uFillTx/>
                <a:latin typeface="Arial"/>
              </a:rPr>
              <a:t>Свойство 4.</a:t>
            </a:r>
            <a:r>
              <a:rPr b="0" lang="ru-RU" sz="2000" spc="-1" strike="noStrike">
                <a:solidFill>
                  <a:srgbClr val="262626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Функция ограничена и сверху и снизу (-1 ≤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s t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≤ 1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262626"/>
                </a:solidFill>
                <a:uFillTx/>
                <a:latin typeface="Arial"/>
              </a:rPr>
              <a:t>Свойство 5.</a:t>
            </a:r>
            <a:r>
              <a:rPr b="1" i="1" lang="ru-RU" sz="2000" spc="-1" strike="noStrike">
                <a:solidFill>
                  <a:srgbClr val="26262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y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Arial"/>
              </a:rPr>
              <a:t>наим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= -1;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y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Arial"/>
              </a:rPr>
              <a:t>наиб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= 1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262626"/>
                </a:solidFill>
                <a:uFillTx/>
                <a:latin typeface="Arial"/>
              </a:rPr>
              <a:t>Свойство 6.</a:t>
            </a:r>
            <a:r>
              <a:rPr b="1" i="1" lang="ru-RU" sz="2000" spc="-1" strike="noStrike">
                <a:solidFill>
                  <a:srgbClr val="262626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Функция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y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s x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периодическая, ее основной период равен 2π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262626"/>
                </a:solidFill>
                <a:uFillTx/>
                <a:latin typeface="Arial"/>
              </a:rPr>
              <a:t>Свойство 7.</a:t>
            </a:r>
            <a:r>
              <a:rPr b="0" lang="ru-RU" sz="2000" spc="-1" strike="noStrike">
                <a:solidFill>
                  <a:srgbClr val="26262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y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s x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– непрерывная функц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262626"/>
                </a:solidFill>
                <a:uFillTx/>
                <a:latin typeface="Arial"/>
              </a:rPr>
              <a:t>Свойство 8.</a:t>
            </a:r>
            <a:r>
              <a:rPr b="0" lang="ru-RU" sz="2000" spc="-1" strike="noStrike">
                <a:solidFill>
                  <a:srgbClr val="26262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y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) = [-1; 1]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262626"/>
                </a:solidFill>
                <a:uFillTx/>
                <a:latin typeface="Arial"/>
              </a:rPr>
              <a:t>Свойство 9.</a:t>
            </a:r>
            <a:r>
              <a:rPr b="0" lang="ru-RU" sz="2000" spc="-1" strike="noStrike">
                <a:solidFill>
                  <a:srgbClr val="262626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Функция выпукла вверх на отрезке [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0,5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π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+2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π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; 0,5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π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+2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π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]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ыпукла вниз на отрезке [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0,5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π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+2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π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;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,5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π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+2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π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]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де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є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Z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3000">
    <p:wheel spokes="1"/>
  </p:transition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3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3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3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3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3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3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3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3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3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3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3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3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Chart 1" descr=""/>
          <p:cNvPicPr/>
          <p:nvPr/>
        </p:nvPicPr>
        <p:blipFill>
          <a:blip r:embed="rId1"/>
          <a:stretch/>
        </p:blipFill>
        <p:spPr>
          <a:xfrm>
            <a:off x="380880" y="2355840"/>
            <a:ext cx="8508960" cy="4157640"/>
          </a:xfrm>
          <a:prstGeom prst="rect">
            <a:avLst/>
          </a:prstGeom>
          <a:ln w="0">
            <a:noFill/>
          </a:ln>
        </p:spPr>
      </p:pic>
      <p:grpSp>
        <p:nvGrpSpPr>
          <p:cNvPr id="364" name=""/>
          <p:cNvGrpSpPr/>
          <p:nvPr/>
        </p:nvGrpSpPr>
        <p:grpSpPr>
          <a:xfrm>
            <a:off x="1190880" y="261360"/>
            <a:ext cx="8565840" cy="9016560"/>
            <a:chOff x="1190880" y="261360"/>
            <a:chExt cx="8565840" cy="9016560"/>
          </a:xfrm>
        </p:grpSpPr>
        <p:sp>
          <p:nvSpPr>
            <p:cNvPr id="365" name="TextBox 9"/>
            <p:cNvSpPr/>
            <p:nvPr/>
          </p:nvSpPr>
          <p:spPr>
            <a:xfrm>
              <a:off x="1484280" y="4516560"/>
              <a:ext cx="80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-3</a:t>
              </a:r>
              <a:r>
                <a:rPr b="0" lang="el-GR" sz="1800" spc="-1" strike="noStrike">
                  <a:solidFill>
                    <a:srgbClr val="ffffff"/>
                  </a:solidFill>
                  <a:latin typeface="Arial"/>
                </a:rPr>
                <a:t>π</a:t>
              </a: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/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TextBox 11"/>
            <p:cNvSpPr/>
            <p:nvPr/>
          </p:nvSpPr>
          <p:spPr>
            <a:xfrm>
              <a:off x="2587680" y="451476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-</a:t>
              </a:r>
              <a:r>
                <a:rPr b="0" lang="el-GR" sz="1800" spc="-1" strike="noStrike">
                  <a:solidFill>
                    <a:srgbClr val="ffffff"/>
                  </a:solidFill>
                  <a:latin typeface="Arial"/>
                </a:rPr>
                <a:t>π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TextBox 12"/>
            <p:cNvSpPr/>
            <p:nvPr/>
          </p:nvSpPr>
          <p:spPr>
            <a:xfrm>
              <a:off x="6413400" y="4538520"/>
              <a:ext cx="406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ffffff"/>
                  </a:solidFill>
                  <a:latin typeface="Arial"/>
                </a:rPr>
                <a:t>π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TextBox 13"/>
            <p:cNvSpPr/>
            <p:nvPr/>
          </p:nvSpPr>
          <p:spPr>
            <a:xfrm>
              <a:off x="7134120" y="4568760"/>
              <a:ext cx="782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r>
                <a:rPr b="0" lang="el-GR" sz="1800" spc="-1" strike="noStrike">
                  <a:solidFill>
                    <a:srgbClr val="ffffff"/>
                  </a:solidFill>
                  <a:latin typeface="Arial"/>
                </a:rPr>
                <a:t>π</a:t>
              </a: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/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6523200" y="4354560"/>
              <a:ext cx="145800" cy="138240"/>
            </a:xfrm>
            <a:prstGeom prst="donut">
              <a:avLst>
                <a:gd name="adj" fmla="val 25000"/>
              </a:avLst>
            </a:prstGeom>
            <a:solidFill>
              <a:srgbClr val="33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518080" y="4349880"/>
              <a:ext cx="146160" cy="137880"/>
            </a:xfrm>
            <a:prstGeom prst="donut">
              <a:avLst>
                <a:gd name="adj" fmla="val 25000"/>
              </a:avLst>
            </a:prstGeom>
            <a:solidFill>
              <a:srgbClr val="33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1800360" y="4346640"/>
              <a:ext cx="145800" cy="137880"/>
            </a:xfrm>
            <a:prstGeom prst="donut">
              <a:avLst>
                <a:gd name="adj" fmla="val 25000"/>
              </a:avLst>
            </a:prstGeom>
            <a:solidFill>
              <a:srgbClr val="33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2765520" y="4349880"/>
              <a:ext cx="145800" cy="137880"/>
            </a:xfrm>
            <a:prstGeom prst="donut">
              <a:avLst>
                <a:gd name="adj" fmla="val 25000"/>
              </a:avLst>
            </a:prstGeom>
            <a:solidFill>
              <a:srgbClr val="33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664080" y="4354560"/>
              <a:ext cx="145800" cy="138240"/>
            </a:xfrm>
            <a:prstGeom prst="donut">
              <a:avLst>
                <a:gd name="adj" fmla="val 25000"/>
              </a:avLst>
            </a:prstGeom>
            <a:solidFill>
              <a:srgbClr val="33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7416720" y="4356000"/>
              <a:ext cx="146160" cy="138240"/>
            </a:xfrm>
            <a:prstGeom prst="donut">
              <a:avLst>
                <a:gd name="adj" fmla="val 25000"/>
              </a:avLst>
            </a:prstGeom>
            <a:solidFill>
              <a:srgbClr val="33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TextBox 9"/>
            <p:cNvSpPr/>
            <p:nvPr/>
          </p:nvSpPr>
          <p:spPr>
            <a:xfrm>
              <a:off x="3390840" y="4567320"/>
              <a:ext cx="80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-</a:t>
              </a:r>
              <a:r>
                <a:rPr b="0" lang="el-GR" sz="1800" spc="-1" strike="noStrike">
                  <a:solidFill>
                    <a:srgbClr val="ffffff"/>
                  </a:solidFill>
                  <a:latin typeface="Arial"/>
                </a:rPr>
                <a:t>π</a:t>
              </a: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/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TextBox 9"/>
            <p:cNvSpPr/>
            <p:nvPr/>
          </p:nvSpPr>
          <p:spPr>
            <a:xfrm>
              <a:off x="5302080" y="4546440"/>
              <a:ext cx="80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ffffff"/>
                  </a:solidFill>
                  <a:latin typeface="Arial"/>
                </a:rPr>
                <a:t>π</a:t>
              </a: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/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5592600" y="2952720"/>
              <a:ext cx="0" cy="275580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736800" y="2997360"/>
              <a:ext cx="0" cy="275580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870200" y="3016080"/>
              <a:ext cx="0" cy="275616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7491240" y="2955960"/>
              <a:ext cx="0" cy="275580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 flipV="1" rot="21003000">
              <a:off x="3364200" y="423720"/>
              <a:ext cx="2147040" cy="398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841" y="43"/>
                  </a:moveTo>
                  <a:arcTo wR="10800" hR="10800" stAng="-5705634" swAng="4167278"/>
                  <a:lnTo>
                    <a:pt x="10800" y="10800"/>
                  </a:lnTo>
                  <a:close/>
                </a:path>
                <a:path fill="none" w="21600" h="21600">
                  <a:moveTo>
                    <a:pt x="9841" y="43"/>
                  </a:moveTo>
                  <a:arcTo wR="10800" hR="10800" stAng="-5705634" swAng="4167278"/>
                </a:path>
              </a:pathLst>
            </a:custGeom>
            <a:noFill/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 flipV="1" rot="9315000">
              <a:off x="3853440" y="4249080"/>
              <a:ext cx="3199680" cy="4568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346" y="98"/>
                  </a:moveTo>
                  <a:arcTo wR="10800" hR="10800" stAng="-5864170" swAng="3595627"/>
                  <a:lnTo>
                    <a:pt x="10800" y="10800"/>
                  </a:lnTo>
                  <a:close/>
                </a:path>
                <a:path fill="none" w="21600" h="21600">
                  <a:moveTo>
                    <a:pt x="9346" y="98"/>
                  </a:moveTo>
                  <a:arcTo wR="10800" hR="10800" stAng="-5864170" swAng="3595627"/>
                </a:path>
              </a:pathLst>
            </a:custGeom>
            <a:noFill/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 flipV="1" rot="9315000">
              <a:off x="5747400" y="4249080"/>
              <a:ext cx="3199680" cy="4568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346" y="98"/>
                  </a:moveTo>
                  <a:arcTo wR="10800" hR="10800" stAng="-5864170" swAng="3595627"/>
                  <a:lnTo>
                    <a:pt x="10800" y="10800"/>
                  </a:lnTo>
                  <a:close/>
                </a:path>
                <a:path fill="none" w="21600" h="21600">
                  <a:moveTo>
                    <a:pt x="9346" y="98"/>
                  </a:moveTo>
                  <a:arcTo wR="10800" hR="10800" stAng="-5864170" swAng="3595627"/>
                </a:path>
              </a:pathLst>
            </a:custGeom>
            <a:noFill/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 flipV="1" rot="21003000">
              <a:off x="5270760" y="416880"/>
              <a:ext cx="2147040" cy="3987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841" y="43"/>
                  </a:moveTo>
                  <a:arcTo wR="10800" hR="10800" stAng="-5705634" swAng="4167278"/>
                  <a:lnTo>
                    <a:pt x="10800" y="10800"/>
                  </a:lnTo>
                  <a:close/>
                </a:path>
                <a:path fill="none" w="21600" h="21600">
                  <a:moveTo>
                    <a:pt x="9841" y="43"/>
                  </a:moveTo>
                  <a:arcTo wR="10800" hR="10800" stAng="-5705634" swAng="4167278"/>
                </a:path>
              </a:pathLst>
            </a:custGeom>
            <a:noFill/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 flipV="1" rot="21003000">
              <a:off x="1519560" y="426240"/>
              <a:ext cx="2147040" cy="3987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841" y="43"/>
                  </a:moveTo>
                  <a:arcTo wR="10800" hR="10800" stAng="-5705634" swAng="4167278"/>
                  <a:lnTo>
                    <a:pt x="10800" y="10800"/>
                  </a:lnTo>
                  <a:close/>
                </a:path>
                <a:path fill="none" w="21600" h="21600">
                  <a:moveTo>
                    <a:pt x="9841" y="43"/>
                  </a:moveTo>
                  <a:arcTo wR="10800" hR="10800" stAng="-5705634" swAng="4167278"/>
                </a:path>
              </a:pathLst>
            </a:custGeom>
            <a:noFill/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 flipV="1" rot="9315000">
              <a:off x="2027880" y="4249080"/>
              <a:ext cx="3199680" cy="4568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346" y="98"/>
                  </a:moveTo>
                  <a:arcTo wR="10800" hR="10800" stAng="-5864170" swAng="3595627"/>
                  <a:lnTo>
                    <a:pt x="10800" y="10800"/>
                  </a:lnTo>
                  <a:close/>
                </a:path>
                <a:path fill="none" w="21600" h="21600">
                  <a:moveTo>
                    <a:pt x="9346" y="98"/>
                  </a:moveTo>
                  <a:arcTo wR="10800" hR="10800" stAng="-5864170" swAng="3595627"/>
                </a:path>
              </a:pathLst>
            </a:custGeom>
            <a:noFill/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387" name="Заголовок 1" descr=""/>
          <p:cNvPicPr/>
          <p:nvPr/>
        </p:nvPicPr>
        <p:blipFill>
          <a:blip r:embed="rId2"/>
          <a:stretch/>
        </p:blipFill>
        <p:spPr>
          <a:xfrm>
            <a:off x="1066680" y="-122400"/>
            <a:ext cx="8278920" cy="2109960"/>
          </a:xfrm>
          <a:prstGeom prst="rect">
            <a:avLst/>
          </a:prstGeom>
          <a:ln w="0">
            <a:noFill/>
          </a:ln>
        </p:spPr>
      </p:pic>
      <p:sp>
        <p:nvSpPr>
          <p:cNvPr id="388" name=""/>
          <p:cNvSpPr/>
          <p:nvPr/>
        </p:nvSpPr>
        <p:spPr>
          <a:xfrm>
            <a:off x="5875200" y="2963880"/>
            <a:ext cx="97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9e010"/>
                </a:solidFill>
                <a:latin typeface="Arial"/>
                <a:ea typeface="Arial"/>
              </a:rPr>
              <a:t>Y=tg 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3000">
    <p:wheel spokes="1"/>
  </p:transition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/>
          <p:nvPr/>
        </p:nvSpPr>
        <p:spPr>
          <a:xfrm>
            <a:off x="179280" y="3011400"/>
            <a:ext cx="8766360" cy="421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262626"/>
                </a:solidFill>
                <a:uFillTx/>
                <a:latin typeface="Arial"/>
                <a:ea typeface="Arial"/>
              </a:rPr>
              <a:t>Свойство 1.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D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(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y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) = (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-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П/2;+П/2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262626"/>
                </a:solidFill>
                <a:uFillTx/>
                <a:latin typeface="Arial"/>
                <a:ea typeface="Arial"/>
              </a:rPr>
              <a:t>Свойство 2.</a:t>
            </a:r>
            <a:r>
              <a:rPr b="0" lang="ru-RU" sz="2000" spc="-1" strike="noStrike">
                <a:solidFill>
                  <a:srgbClr val="262626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(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y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) = (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-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∞;+∞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262626"/>
                </a:solidFill>
                <a:uFillTx/>
                <a:latin typeface="Arial"/>
                <a:ea typeface="Arial"/>
              </a:rPr>
              <a:t>Свойство 3.</a:t>
            </a:r>
            <a:r>
              <a:rPr b="0" lang="ru-RU" sz="2000" spc="-1" strike="noStrike">
                <a:solidFill>
                  <a:srgbClr val="262626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Функция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y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 =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tg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x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 возрастает на отрезке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[-π/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+ 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; π/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+ 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]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,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где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 є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262626"/>
                </a:solidFill>
                <a:uFillTx/>
                <a:latin typeface="Arial"/>
                <a:ea typeface="Arial"/>
              </a:rPr>
              <a:t>Свойство 4.</a:t>
            </a:r>
            <a:r>
              <a:rPr b="0" lang="ru-RU" sz="2000" spc="-1" strike="noStrike">
                <a:solidFill>
                  <a:srgbClr val="262626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Функция неограничен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262626"/>
                </a:solidFill>
                <a:uFillTx/>
                <a:latin typeface="Arial"/>
                <a:ea typeface="Arial"/>
              </a:rPr>
              <a:t>Свойство 5.</a:t>
            </a:r>
            <a:r>
              <a:rPr b="1" i="1" lang="ru-RU" sz="2000" spc="-1" strike="noStrike">
                <a:solidFill>
                  <a:srgbClr val="262626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наибольшего и наименьшего значения функции нет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262626"/>
                </a:solidFill>
                <a:uFillTx/>
                <a:latin typeface="Arial"/>
                <a:ea typeface="Arial"/>
              </a:rPr>
              <a:t>Свойство 6.</a:t>
            </a:r>
            <a:r>
              <a:rPr b="1" i="1" lang="ru-RU" sz="2000" spc="-1" strike="noStrike">
                <a:solidFill>
                  <a:srgbClr val="262626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Функция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y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 =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tg x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 периодическая, ее период равен π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262626"/>
                </a:solidFill>
                <a:uFillTx/>
                <a:latin typeface="Arial"/>
                <a:ea typeface="Arial"/>
              </a:rPr>
              <a:t>Свойство 7.</a:t>
            </a:r>
            <a:r>
              <a:rPr b="0" lang="ru-RU" sz="2000" spc="-1" strike="noStrike">
                <a:solidFill>
                  <a:srgbClr val="262626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y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 =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tg x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– непрерывная функц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262626"/>
                </a:solidFill>
                <a:uFillTx/>
                <a:latin typeface="Arial"/>
                <a:ea typeface="Arial"/>
              </a:rPr>
              <a:t>Свойство 8.</a:t>
            </a:r>
            <a:r>
              <a:rPr b="0" lang="ru-RU" sz="2000" spc="-1" strike="noStrike">
                <a:solidFill>
                  <a:srgbClr val="262626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y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 =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tg x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–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нечётная функц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262626"/>
                </a:solidFill>
                <a:uFillTx/>
                <a:latin typeface="Arial"/>
                <a:ea typeface="Arial"/>
              </a:rPr>
              <a:t>Свойство </a:t>
            </a:r>
            <a:r>
              <a:rPr b="1" i="1" lang="en-US" sz="2000" spc="-1" strike="noStrike" u="sng">
                <a:solidFill>
                  <a:srgbClr val="262626"/>
                </a:solidFill>
                <a:uFillTx/>
                <a:latin typeface="Arial"/>
                <a:ea typeface="Arial"/>
              </a:rPr>
              <a:t>9</a:t>
            </a:r>
            <a:r>
              <a:rPr b="1" i="1" lang="ru-RU" sz="2000" spc="-1" strike="noStrike" u="sng">
                <a:solidFill>
                  <a:srgbClr val="262626"/>
                </a:solidFill>
                <a:uFillTx/>
                <a:latin typeface="Arial"/>
                <a:ea typeface="Arial"/>
              </a:rPr>
              <a:t>.</a:t>
            </a:r>
            <a:r>
              <a:rPr b="0" lang="ru-RU" sz="2000" spc="-1" strike="noStrike">
                <a:solidFill>
                  <a:srgbClr val="262626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Есть вертикальные асимптот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0" name="Заголовок 1" descr=""/>
          <p:cNvPicPr/>
          <p:nvPr/>
        </p:nvPicPr>
        <p:blipFill>
          <a:blip r:embed="rId1"/>
          <a:stretch/>
        </p:blipFill>
        <p:spPr>
          <a:xfrm>
            <a:off x="723960" y="0"/>
            <a:ext cx="8278920" cy="164160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 txBox="1"/>
          <p:nvPr/>
        </p:nvSpPr>
        <p:spPr>
          <a:xfrm>
            <a:off x="2025720" y="1584360"/>
            <a:ext cx="4734000" cy="105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вйства функции y=tg x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advTm="3000">
    <p:wheel spokes="1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2" name=""/>
          <p:cNvGrpSpPr/>
          <p:nvPr/>
        </p:nvGrpSpPr>
        <p:grpSpPr>
          <a:xfrm>
            <a:off x="328680" y="-383760"/>
            <a:ext cx="9892440" cy="9709560"/>
            <a:chOff x="328680" y="-383760"/>
            <a:chExt cx="9892440" cy="9709560"/>
          </a:xfrm>
        </p:grpSpPr>
        <p:pic>
          <p:nvPicPr>
            <p:cNvPr id="393" name="Chart 1" descr=""/>
            <p:cNvPicPr/>
            <p:nvPr/>
          </p:nvPicPr>
          <p:blipFill>
            <a:blip r:embed="rId1"/>
            <a:stretch/>
          </p:blipFill>
          <p:spPr>
            <a:xfrm>
              <a:off x="328680" y="2338560"/>
              <a:ext cx="8508960" cy="415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4" name=""/>
            <p:cNvSpPr/>
            <p:nvPr/>
          </p:nvSpPr>
          <p:spPr>
            <a:xfrm>
              <a:off x="5346720" y="4336920"/>
              <a:ext cx="146160" cy="138240"/>
            </a:xfrm>
            <a:prstGeom prst="donut">
              <a:avLst>
                <a:gd name="adj" fmla="val 25000"/>
              </a:avLst>
            </a:prstGeom>
            <a:solidFill>
              <a:srgbClr val="333300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2746440" y="4346640"/>
              <a:ext cx="146160" cy="137880"/>
            </a:xfrm>
            <a:prstGeom prst="donut">
              <a:avLst>
                <a:gd name="adj" fmla="val 25000"/>
              </a:avLst>
            </a:prstGeom>
            <a:solidFill>
              <a:srgbClr val="333300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627360" y="4348080"/>
              <a:ext cx="146160" cy="138240"/>
            </a:xfrm>
            <a:prstGeom prst="donut">
              <a:avLst>
                <a:gd name="adj" fmla="val 25000"/>
              </a:avLst>
            </a:prstGeom>
            <a:solidFill>
              <a:srgbClr val="333300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8055000" y="4349880"/>
              <a:ext cx="146160" cy="137880"/>
            </a:xfrm>
            <a:prstGeom prst="donut">
              <a:avLst>
                <a:gd name="adj" fmla="val 25000"/>
              </a:avLst>
            </a:prstGeom>
            <a:solidFill>
              <a:srgbClr val="333300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7080120" y="4332240"/>
              <a:ext cx="146160" cy="138240"/>
            </a:xfrm>
            <a:prstGeom prst="donut">
              <a:avLst>
                <a:gd name="adj" fmla="val 25000"/>
              </a:avLst>
            </a:prstGeom>
            <a:solidFill>
              <a:srgbClr val="333300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246720" y="4359240"/>
              <a:ext cx="146160" cy="138240"/>
            </a:xfrm>
            <a:prstGeom prst="donut">
              <a:avLst>
                <a:gd name="adj" fmla="val 25000"/>
              </a:avLst>
            </a:prstGeom>
            <a:solidFill>
              <a:srgbClr val="333300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 rot="12352200">
              <a:off x="4872960" y="-12600"/>
              <a:ext cx="2749680" cy="4568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346" y="98"/>
                  </a:moveTo>
                  <a:arcTo wR="10800" hR="10800" stAng="-5864170" swAng="3595627"/>
                  <a:lnTo>
                    <a:pt x="10800" y="10800"/>
                  </a:lnTo>
                  <a:close/>
                </a:path>
                <a:path fill="none" w="21600" h="21600">
                  <a:moveTo>
                    <a:pt x="9346" y="98"/>
                  </a:moveTo>
                  <a:arcTo wR="10800" hR="10800" stAng="-5864170" swAng="3595627"/>
                </a:path>
              </a:pathLst>
            </a:custGeom>
            <a:noFill/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4644360" y="4389480"/>
              <a:ext cx="1694880" cy="4936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841" y="43"/>
                  </a:moveTo>
                  <a:arcTo wR="10800" hR="10800" stAng="-5705634" swAng="4360670"/>
                  <a:lnTo>
                    <a:pt x="10800" y="10800"/>
                  </a:lnTo>
                  <a:close/>
                </a:path>
                <a:path fill="none" w="21600" h="21600">
                  <a:moveTo>
                    <a:pt x="9841" y="43"/>
                  </a:moveTo>
                  <a:arcTo wR="10800" hR="10800" stAng="-5705634" swAng="4360670"/>
                </a:path>
              </a:pathLst>
            </a:custGeom>
            <a:noFill/>
            <a:ln w="381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313320" y="2981160"/>
              <a:ext cx="12960" cy="279720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8115480" y="2975040"/>
              <a:ext cx="12600" cy="279720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836800" y="3046320"/>
              <a:ext cx="12600" cy="279720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 rot="12352200">
              <a:off x="6612840" y="-4680"/>
              <a:ext cx="2749680" cy="4568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346" y="98"/>
                  </a:moveTo>
                  <a:arcTo wR="10800" hR="10800" stAng="-5864170" swAng="3595627"/>
                  <a:lnTo>
                    <a:pt x="10800" y="10800"/>
                  </a:lnTo>
                  <a:close/>
                </a:path>
                <a:path fill="none" w="21600" h="21600">
                  <a:moveTo>
                    <a:pt x="9346" y="98"/>
                  </a:moveTo>
                  <a:arcTo wR="10800" hR="10800" stAng="-5864170" swAng="3595627"/>
                </a:path>
              </a:pathLst>
            </a:custGeom>
            <a:noFill/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384240" y="4389480"/>
              <a:ext cx="1694880" cy="4936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841" y="43"/>
                  </a:moveTo>
                  <a:arcTo wR="10800" hR="10800" stAng="-5705634" swAng="4360670"/>
                  <a:lnTo>
                    <a:pt x="10800" y="10800"/>
                  </a:lnTo>
                  <a:close/>
                </a:path>
                <a:path fill="none" w="21600" h="21600">
                  <a:moveTo>
                    <a:pt x="9841" y="43"/>
                  </a:moveTo>
                  <a:arcTo wR="10800" hR="10800" stAng="-5705634" swAng="4360670"/>
                </a:path>
              </a:pathLst>
            </a:custGeom>
            <a:noFill/>
            <a:ln w="381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913840" y="4389480"/>
              <a:ext cx="1694880" cy="4936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841" y="43"/>
                  </a:moveTo>
                  <a:arcTo wR="10800" hR="10800" stAng="-5705634" swAng="4360670"/>
                  <a:lnTo>
                    <a:pt x="10800" y="10800"/>
                  </a:lnTo>
                  <a:close/>
                </a:path>
                <a:path fill="none" w="21600" h="21600">
                  <a:moveTo>
                    <a:pt x="9841" y="43"/>
                  </a:moveTo>
                  <a:arcTo wR="10800" hR="10800" stAng="-5705634" swAng="4360670"/>
                </a:path>
              </a:pathLst>
            </a:custGeom>
            <a:noFill/>
            <a:ln w="381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 rot="12352200">
              <a:off x="3152160" y="-12600"/>
              <a:ext cx="2749680" cy="4568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346" y="98"/>
                  </a:moveTo>
                  <a:arcTo wR="10800" hR="10800" stAng="-5864170" swAng="3595627"/>
                  <a:lnTo>
                    <a:pt x="10800" y="10800"/>
                  </a:lnTo>
                  <a:close/>
                </a:path>
                <a:path fill="none" w="21600" h="21600">
                  <a:moveTo>
                    <a:pt x="9346" y="98"/>
                  </a:moveTo>
                  <a:arcTo wR="10800" hR="10800" stAng="-5864170" swAng="3595627"/>
                </a:path>
              </a:pathLst>
            </a:custGeom>
            <a:noFill/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3340080" y="4465800"/>
              <a:ext cx="63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-П/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114880" y="4465800"/>
              <a:ext cx="63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П/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2568600" y="4476600"/>
              <a:ext cx="63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П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6039000" y="4438800"/>
              <a:ext cx="63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П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837480" y="4422600"/>
              <a:ext cx="784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3П/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7824960" y="4413240"/>
              <a:ext cx="63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2П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703560" y="2868480"/>
              <a:ext cx="95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00"/>
                  </a:solidFill>
                  <a:latin typeface="Arial"/>
                  <a:ea typeface="Arial"/>
                </a:rPr>
                <a:t>Y=ctg 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416" name="Заголовок 1" descr=""/>
          <p:cNvPicPr/>
          <p:nvPr/>
        </p:nvPicPr>
        <p:blipFill>
          <a:blip r:embed="rId2"/>
          <a:stretch/>
        </p:blipFill>
        <p:spPr>
          <a:xfrm>
            <a:off x="865080" y="142920"/>
            <a:ext cx="8278920" cy="1641600"/>
          </a:xfrm>
          <a:prstGeom prst="rect">
            <a:avLst/>
          </a:prstGeom>
          <a:ln w="0">
            <a:noFill/>
          </a:ln>
        </p:spPr>
      </p:pic>
    </p:spTree>
  </p:cSld>
  <p:transition advTm="3000">
    <p:wheel spokes="1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/>
          </p:nvPr>
        </p:nvSpPr>
        <p:spPr>
          <a:xfrm>
            <a:off x="274320" y="458640"/>
            <a:ext cx="8607240" cy="625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89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ff00"/>
                </a:solidFill>
                <a:latin typeface="Impact"/>
              </a:rPr>
              <a:t>Цель:</a:t>
            </a:r>
            <a:r>
              <a:rPr b="0" lang="en-US" sz="3200" spc="-1" strike="noStrike">
                <a:solidFill>
                  <a:srgbClr val="00ff00"/>
                </a:solidFill>
                <a:latin typeface="Impact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систематизировать знания о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89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свойствах и графиках тригонометрически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89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функци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896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ff00"/>
                </a:solidFill>
                <a:latin typeface="Impact"/>
              </a:rPr>
              <a:t>Задачи: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89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- развить творческую активность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89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- расширить кругозор учащихся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89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- рассказать о сходствах и различиях 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89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графиках и свойствах тригонометрически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89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функций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89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Заголовок 1" descr=""/>
          <p:cNvPicPr/>
          <p:nvPr/>
        </p:nvPicPr>
        <p:blipFill>
          <a:blip r:embed="rId1"/>
          <a:stretch/>
        </p:blipFill>
        <p:spPr>
          <a:xfrm>
            <a:off x="704880" y="135000"/>
            <a:ext cx="8278920" cy="164124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 txBox="1"/>
          <p:nvPr/>
        </p:nvSpPr>
        <p:spPr>
          <a:xfrm>
            <a:off x="2025720" y="1584360"/>
            <a:ext cx="4734000" cy="105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вйства функции y=ctg x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19" name=""/>
          <p:cNvSpPr/>
          <p:nvPr/>
        </p:nvSpPr>
        <p:spPr>
          <a:xfrm>
            <a:off x="385920" y="3197160"/>
            <a:ext cx="84438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262626"/>
                </a:solidFill>
                <a:uFillTx/>
                <a:latin typeface="Arial"/>
                <a:ea typeface="Arial"/>
              </a:rPr>
              <a:t>Свойство 1.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D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(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y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) = (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;+П/2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262626"/>
                </a:solidFill>
                <a:uFillTx/>
                <a:latin typeface="Arial"/>
                <a:ea typeface="Arial"/>
              </a:rPr>
              <a:t>Свойство 2.</a:t>
            </a:r>
            <a:r>
              <a:rPr b="0" lang="ru-RU" sz="2000" spc="-1" strike="noStrike">
                <a:solidFill>
                  <a:srgbClr val="262626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(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y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) = (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-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∞;+∞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262626"/>
                </a:solidFill>
                <a:uFillTx/>
                <a:latin typeface="Arial"/>
                <a:ea typeface="Arial"/>
              </a:rPr>
              <a:t>Свойство 3.</a:t>
            </a:r>
            <a:r>
              <a:rPr b="0" lang="ru-RU" sz="2000" spc="-1" strike="noStrike">
                <a:solidFill>
                  <a:srgbClr val="262626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Функция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y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 =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ctg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x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 убывает на отрезке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[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; π/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+ 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]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,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где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 є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262626"/>
                </a:solidFill>
                <a:uFillTx/>
                <a:latin typeface="Arial"/>
                <a:ea typeface="Arial"/>
              </a:rPr>
              <a:t>Свойство 4.</a:t>
            </a:r>
            <a:r>
              <a:rPr b="0" lang="ru-RU" sz="2000" spc="-1" strike="noStrike">
                <a:solidFill>
                  <a:srgbClr val="262626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Функция неограничен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262626"/>
                </a:solidFill>
                <a:uFillTx/>
                <a:latin typeface="Arial"/>
                <a:ea typeface="Arial"/>
              </a:rPr>
              <a:t>Свойство 5.</a:t>
            </a:r>
            <a:r>
              <a:rPr b="1" i="1" lang="ru-RU" sz="2000" spc="-1" strike="noStrike">
                <a:solidFill>
                  <a:srgbClr val="262626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наибольшего и наименьшего значения функции нет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262626"/>
                </a:solidFill>
                <a:uFillTx/>
                <a:latin typeface="Arial"/>
                <a:ea typeface="Arial"/>
              </a:rPr>
              <a:t>Свойство 6.</a:t>
            </a:r>
            <a:r>
              <a:rPr b="1" i="1" lang="ru-RU" sz="2000" spc="-1" strike="noStrike">
                <a:solidFill>
                  <a:srgbClr val="262626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Функция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y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 =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ctg x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 периодическая, ее период равен π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262626"/>
                </a:solidFill>
                <a:uFillTx/>
                <a:latin typeface="Arial"/>
                <a:ea typeface="Arial"/>
              </a:rPr>
              <a:t>Свойство 7.</a:t>
            </a:r>
            <a:r>
              <a:rPr b="0" lang="ru-RU" sz="2000" spc="-1" strike="noStrike">
                <a:solidFill>
                  <a:srgbClr val="262626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y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 =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ctg x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– непрерывная функц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262626"/>
                </a:solidFill>
                <a:uFillTx/>
                <a:latin typeface="Arial"/>
                <a:ea typeface="Arial"/>
              </a:rPr>
              <a:t>Свойство 8.</a:t>
            </a:r>
            <a:r>
              <a:rPr b="0" lang="ru-RU" sz="2000" spc="-1" strike="noStrike">
                <a:solidFill>
                  <a:srgbClr val="262626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y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 =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ctg x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–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нечётная функц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262626"/>
                </a:solidFill>
                <a:uFillTx/>
                <a:latin typeface="Arial"/>
                <a:ea typeface="Arial"/>
              </a:rPr>
              <a:t>Свойство </a:t>
            </a:r>
            <a:r>
              <a:rPr b="1" i="1" lang="en-US" sz="2000" spc="-1" strike="noStrike" u="sng">
                <a:solidFill>
                  <a:srgbClr val="262626"/>
                </a:solidFill>
                <a:uFillTx/>
                <a:latin typeface="Arial"/>
                <a:ea typeface="Arial"/>
              </a:rPr>
              <a:t>9</a:t>
            </a:r>
            <a:r>
              <a:rPr b="1" i="1" lang="ru-RU" sz="2000" spc="-1" strike="noStrike" u="sng">
                <a:solidFill>
                  <a:srgbClr val="262626"/>
                </a:solidFill>
                <a:uFillTx/>
                <a:latin typeface="Arial"/>
                <a:ea typeface="Arial"/>
              </a:rPr>
              <a:t>.</a:t>
            </a:r>
            <a:r>
              <a:rPr b="0" lang="en-US" sz="2000" spc="-1" strike="noStrike">
                <a:solidFill>
                  <a:srgbClr val="262626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Есть вертикальные асимптот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3000">
    <p:wheel spokes="1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/>
          </p:nvPr>
        </p:nvSpPr>
        <p:spPr>
          <a:xfrm>
            <a:off x="456840" y="331560"/>
            <a:ext cx="8467560" cy="57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85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ff00"/>
                </a:solidFill>
                <a:latin typeface="Impact"/>
              </a:rPr>
              <a:t>Вывод:</a:t>
            </a:r>
            <a:r>
              <a:rPr b="0" lang="en-US" sz="3000" spc="-1" strike="noStrike">
                <a:solidFill>
                  <a:srgbClr val="ffffff"/>
                </a:solidFill>
                <a:latin typeface="Impact"/>
              </a:rPr>
              <a:t>  над проблемным вопросом «В чём сходство и различие тригонометрических функций» работала группа учеников 10 «Б» класса. Нам предстояло подробно рассказать о свойствах и графиках тригонометрических функций, для того что бы узнать чем же они друг от друга отличаются. Мы постарались очень чётко изобразить графики функций, по которым видны все отличия и сходства и подобрать основные свойства. Мы считаем, что с заданием справились и эта презентация поможет нам и нашим одноклассникам разобраться в том, в чём ещё не разобрались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85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Заголовок 1" descr=""/>
          <p:cNvPicPr/>
          <p:nvPr/>
        </p:nvPicPr>
        <p:blipFill>
          <a:blip r:embed="rId1"/>
          <a:stretch/>
        </p:blipFill>
        <p:spPr>
          <a:xfrm>
            <a:off x="436680" y="135000"/>
            <a:ext cx="8278560" cy="1641240"/>
          </a:xfrm>
          <a:prstGeom prst="rect">
            <a:avLst/>
          </a:prstGeom>
          <a:ln w="0">
            <a:noFill/>
          </a:ln>
        </p:spPr>
      </p:pic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245880" y="2804760"/>
            <a:ext cx="8699400" cy="214308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0" bIns="0" anchor="b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262626"/>
                </a:solidFill>
                <a:uFillTx/>
                <a:latin typeface="Arial"/>
              </a:rPr>
              <a:t>Определение.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Тригонометрические функции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-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это неалгебраические функции, устанавливающие зависимость между сторонами и углами треугольника. Тригонометрические функции угла α определяются при помощи числовой окружности, а также из прямоугольного треугольника (для острых углов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3000">
    <p:wheel spokes="1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" dur="500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Заголовок 1" descr=""/>
          <p:cNvPicPr/>
          <p:nvPr/>
        </p:nvPicPr>
        <p:blipFill>
          <a:blip r:embed="rId1"/>
          <a:stretch/>
        </p:blipFill>
        <p:spPr>
          <a:xfrm>
            <a:off x="1066680" y="-122400"/>
            <a:ext cx="8278920" cy="2109960"/>
          </a:xfrm>
          <a:prstGeom prst="rect">
            <a:avLst/>
          </a:prstGeom>
          <a:ln w="0">
            <a:noFill/>
          </a:ln>
        </p:spPr>
      </p:pic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356760" y="785880"/>
            <a:ext cx="8643960" cy="33573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0" bIns="0" anchor="b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262626"/>
                </a:solidFill>
                <a:uFillTx/>
                <a:latin typeface="Arial"/>
              </a:rPr>
              <a:t>Определение.</a:t>
            </a:r>
            <a:r>
              <a:rPr b="1" i="1" lang="en-US" sz="2000" spc="-1" strike="noStrike">
                <a:solidFill>
                  <a:srgbClr val="26262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Числовая окружность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– единичная окружность с установленным соответствием (между действительными числами и точками окружности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2" name="Chart 1" descr=""/>
          <p:cNvPicPr/>
          <p:nvPr/>
        </p:nvPicPr>
        <p:blipFill>
          <a:blip r:embed="rId2"/>
          <a:stretch/>
        </p:blipFill>
        <p:spPr>
          <a:xfrm>
            <a:off x="2084400" y="3151080"/>
            <a:ext cx="6583320" cy="3511800"/>
          </a:xfrm>
          <a:prstGeom prst="rect">
            <a:avLst/>
          </a:prstGeom>
          <a:ln w="0">
            <a:noFill/>
          </a:ln>
        </p:spPr>
      </p:pic>
      <p:sp>
        <p:nvSpPr>
          <p:cNvPr id="273" name="Овал 4"/>
          <p:cNvSpPr/>
          <p:nvPr/>
        </p:nvSpPr>
        <p:spPr>
          <a:xfrm>
            <a:off x="3819600" y="3311640"/>
            <a:ext cx="3143160" cy="321444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Прямоугольник 6"/>
          <p:cNvSpPr/>
          <p:nvPr/>
        </p:nvSpPr>
        <p:spPr>
          <a:xfrm>
            <a:off x="152280" y="5892840"/>
            <a:ext cx="43182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f2f2f2"/>
                </a:solidFill>
                <a:uFillTx/>
                <a:latin typeface="Arial"/>
              </a:rPr>
              <a:t>Уравнение числовой окружности:</a:t>
            </a:r>
            <a:r>
              <a:rPr b="0" lang="ru-RU" sz="1800" spc="-1" strike="noStrike">
                <a:solidFill>
                  <a:srgbClr val="f2f2f2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c000"/>
                </a:solidFill>
                <a:latin typeface="Arial"/>
              </a:rPr>
              <a:t>x</a:t>
            </a:r>
            <a:r>
              <a:rPr b="0" lang="ru-RU" sz="2800" spc="-1" strike="noStrike" baseline="30000">
                <a:solidFill>
                  <a:srgbClr val="ffc000"/>
                </a:solidFill>
                <a:latin typeface="Arial"/>
              </a:rPr>
              <a:t>2</a:t>
            </a:r>
            <a:r>
              <a:rPr b="0" lang="en-US" sz="2800" spc="-1" strike="noStrike" baseline="30000">
                <a:solidFill>
                  <a:srgbClr val="ffc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c000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ffc000"/>
                </a:solidFill>
                <a:latin typeface="Arial"/>
              </a:rPr>
              <a:t> y</a:t>
            </a:r>
            <a:r>
              <a:rPr b="0" lang="ru-RU" sz="2800" spc="-1" strike="noStrike" baseline="30000">
                <a:solidFill>
                  <a:srgbClr val="ffc000"/>
                </a:solidFill>
                <a:latin typeface="Arial"/>
              </a:rPr>
              <a:t>2</a:t>
            </a:r>
            <a:r>
              <a:rPr b="0" lang="en-US" sz="2800" spc="-1" strike="noStrike" baseline="30000">
                <a:solidFill>
                  <a:srgbClr val="ffc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c000"/>
                </a:solidFill>
                <a:latin typeface="Arial"/>
              </a:rPr>
              <a:t>=</a:t>
            </a:r>
            <a:r>
              <a:rPr b="0" lang="en-US" sz="2800" spc="-1" strike="noStrike">
                <a:solidFill>
                  <a:srgbClr val="ffc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c000"/>
                </a:solidFill>
                <a:latin typeface="Arial"/>
              </a:rPr>
              <a:t>1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1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" dur="200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1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7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mph" presetID="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39" dur="2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40" dur="2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2000"/>
                            </p:stCondLst>
                            <p:childTnLst>
                              <p:par>
                                <p:cTn id="4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Заголовок 1" descr=""/>
          <p:cNvPicPr/>
          <p:nvPr/>
        </p:nvPicPr>
        <p:blipFill>
          <a:blip r:embed="rId1"/>
          <a:stretch/>
        </p:blipFill>
        <p:spPr>
          <a:xfrm>
            <a:off x="1066680" y="-122400"/>
            <a:ext cx="8278920" cy="2109960"/>
          </a:xfrm>
          <a:prstGeom prst="rect">
            <a:avLst/>
          </a:prstGeom>
          <a:ln w="0">
            <a:noFill/>
          </a:ln>
        </p:spPr>
      </p:pic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499680" y="2000160"/>
            <a:ext cx="864396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0" bIns="0" anchor="b">
            <a:noAutofit/>
          </a:bodyPr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Движение по числовой окружности происходит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против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часовой стрелк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7" name="Chart 1" descr=""/>
          <p:cNvPicPr/>
          <p:nvPr/>
        </p:nvPicPr>
        <p:blipFill>
          <a:blip r:embed="rId2"/>
          <a:stretch/>
        </p:blipFill>
        <p:spPr>
          <a:xfrm>
            <a:off x="993600" y="3139920"/>
            <a:ext cx="6583680" cy="3510000"/>
          </a:xfrm>
          <a:prstGeom prst="rect">
            <a:avLst/>
          </a:prstGeom>
          <a:ln w="0">
            <a:noFill/>
          </a:ln>
        </p:spPr>
      </p:pic>
      <p:sp>
        <p:nvSpPr>
          <p:cNvPr id="278" name="Овал 9"/>
          <p:cNvSpPr/>
          <p:nvPr/>
        </p:nvSpPr>
        <p:spPr>
          <a:xfrm>
            <a:off x="2714760" y="3286080"/>
            <a:ext cx="3143160" cy="321480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Овал 10"/>
          <p:cNvSpPr/>
          <p:nvPr/>
        </p:nvSpPr>
        <p:spPr>
          <a:xfrm>
            <a:off x="5786280" y="4824360"/>
            <a:ext cx="142920" cy="14292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Овал 11"/>
          <p:cNvSpPr/>
          <p:nvPr/>
        </p:nvSpPr>
        <p:spPr>
          <a:xfrm>
            <a:off x="4254480" y="3213000"/>
            <a:ext cx="127080" cy="127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Овал 12"/>
          <p:cNvSpPr/>
          <p:nvPr/>
        </p:nvSpPr>
        <p:spPr>
          <a:xfrm>
            <a:off x="2641680" y="4826160"/>
            <a:ext cx="164880" cy="1396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Овал 13"/>
          <p:cNvSpPr/>
          <p:nvPr/>
        </p:nvSpPr>
        <p:spPr>
          <a:xfrm>
            <a:off x="4203720" y="6451560"/>
            <a:ext cx="165240" cy="1522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TextBox 14"/>
          <p:cNvSpPr/>
          <p:nvPr/>
        </p:nvSpPr>
        <p:spPr>
          <a:xfrm>
            <a:off x="5842080" y="45720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TextBox 15"/>
          <p:cNvSpPr/>
          <p:nvPr/>
        </p:nvSpPr>
        <p:spPr>
          <a:xfrm>
            <a:off x="4064040" y="281952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Arial"/>
              </a:rPr>
              <a:t>π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TextBox 16"/>
          <p:cNvSpPr/>
          <p:nvPr/>
        </p:nvSpPr>
        <p:spPr>
          <a:xfrm>
            <a:off x="2362320" y="4470480"/>
            <a:ext cx="35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Arial"/>
              </a:rPr>
              <a:t>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TextBox 17"/>
          <p:cNvSpPr/>
          <p:nvPr/>
        </p:nvSpPr>
        <p:spPr>
          <a:xfrm>
            <a:off x="3962520" y="648828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l-GR" sz="1800" spc="-1" strike="noStrike">
                <a:solidFill>
                  <a:srgbClr val="ffffff"/>
                </a:solidFill>
                <a:latin typeface="Arial"/>
              </a:rPr>
              <a:t>π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TextBox 18"/>
          <p:cNvSpPr/>
          <p:nvPr/>
        </p:nvSpPr>
        <p:spPr>
          <a:xfrm>
            <a:off x="5842080" y="4838760"/>
            <a:ext cx="101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l-GR" sz="1800" spc="-1" strike="noStrike">
                <a:solidFill>
                  <a:srgbClr val="ffffff"/>
                </a:solidFill>
                <a:latin typeface="Arial"/>
              </a:rPr>
              <a:t>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TextBox 19"/>
          <p:cNvSpPr/>
          <p:nvPr/>
        </p:nvSpPr>
        <p:spPr>
          <a:xfrm>
            <a:off x="4343400" y="3835440"/>
            <a:ext cx="118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четвер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TextBox 20"/>
          <p:cNvSpPr/>
          <p:nvPr/>
        </p:nvSpPr>
        <p:spPr>
          <a:xfrm>
            <a:off x="3086280" y="3835440"/>
            <a:ext cx="118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I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четвер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TextBox 21"/>
          <p:cNvSpPr/>
          <p:nvPr/>
        </p:nvSpPr>
        <p:spPr>
          <a:xfrm>
            <a:off x="3073320" y="5270400"/>
            <a:ext cx="118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II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четвер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TextBox 22"/>
          <p:cNvSpPr/>
          <p:nvPr/>
        </p:nvSpPr>
        <p:spPr>
          <a:xfrm>
            <a:off x="4381560" y="5257800"/>
            <a:ext cx="118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V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четвер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1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1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60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500"/>
                            </p:stCondLst>
                            <p:childTnLst>
                              <p:par>
                                <p:cTn id="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104 -0.01759 -0.00191 -0.03518 -0.00417 -0.05185 C -0.00642 -0.06852 -0.00903 -0.08518 -0.01389 -0.1 C -0.01875 -0.11481 -0.02622 -0.12847 -0.03333 -0.14074 C -0.04045 -0.15301 -0.04618 -0.16227 -0.05695 -0.17407 C -0.06771 -0.18588 -0.08351 -0.20115 -0.09861 -0.21111 C -0.11372 -0.22106 -0.13559 -0.2294 -0.14722 -0.23333 C -0.15886 -0.23727 -0.16476 -0.23518 -0.16806 -0.23518 E">
                                      <p:cBhvr>
                                        <p:cTn id="70" dur="2000" fill="hold"/>
                                        <p:tgtEl>
                                          <p:spTgt spid="2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3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2000"/>
                            </p:stCondLst>
                            <p:childTnLst>
                              <p:par>
                                <p:cTn id="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1805 0.00185 -0.03611 0.00393 -0.05277 0.01111 C -0.06944 0.01828 -0.08611 0.0294 -0.1 0.04259 C -0.11389 0.05578 -0.12691 0.07569 -0.13611 0.09074 C -0.14531 0.10578 -0.15052 0.12014 -0.15555 0.13333 C -0.16059 0.14653 -0.16371 0.15347 -0.16666 0.17037 C -0.16961 0.18727 -0.17239 0.2243 -0.17361 0.23518 E">
                                      <p:cBhvr>
                                        <p:cTn id="82" dur="2000" fill="hold"/>
                                        <p:tgtEl>
                                          <p:spTgt spid="2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2000"/>
                            </p:stCondLst>
                            <p:childTnLst>
                              <p:par>
                                <p:cTn id="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39 -0.0037 C -0.00139 0.01667 -0.00122 0.03704 0.00416 0.05926 C 0.00955 0.08148 0.01875 0.10741 0.03055 0.12963 C 0.04236 0.15185 0.05538 0.17593 0.075 0.19259 C 0.09461 0.20926 0.13211 0.22315 0.14861 0.22963 C 0.1651 0.23611 0.16944 0.23125 0.17361 0.23148 E">
                                      <p:cBhvr>
                                        <p:cTn id="94" dur="2000" fill="hold"/>
                                        <p:tgtEl>
                                          <p:spTgt spid="2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2000"/>
                            </p:stCondLst>
                            <p:childTnLst>
                              <p:par>
                                <p:cTn id="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1875 -0.0037 0.0375 -0.00717 0.05417 -0.01481 C 0.07084 -0.02245 0.08664 -0.0331 0.1 -0.04629 C 0.11337 -0.05949 0.125 -0.07754 0.13473 -0.09444 C 0.14445 -0.11134 0.15261 -0.13055 0.15834 -0.14815 C 0.16407 -0.16574 0.16737 -0.18518 0.16945 -0.2 C 0.17153 -0.21481 0.17119 -0.22592 0.17084 -0.23704 E">
                                      <p:cBhvr>
                                        <p:cTn id="106" dur="2000" fill="hold"/>
                                        <p:tgtEl>
                                          <p:spTgt spid="2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Заголовок 1" descr=""/>
          <p:cNvPicPr/>
          <p:nvPr/>
        </p:nvPicPr>
        <p:blipFill>
          <a:blip r:embed="rId1"/>
          <a:stretch/>
        </p:blipFill>
        <p:spPr>
          <a:xfrm>
            <a:off x="1066680" y="-122400"/>
            <a:ext cx="8278920" cy="2109960"/>
          </a:xfrm>
          <a:prstGeom prst="rect">
            <a:avLst/>
          </a:prstGeom>
          <a:ln w="0">
            <a:noFill/>
          </a:ln>
        </p:spPr>
      </p:pic>
      <p:pic>
        <p:nvPicPr>
          <p:cNvPr id="293" name="Chart 1" descr=""/>
          <p:cNvPicPr/>
          <p:nvPr/>
        </p:nvPicPr>
        <p:blipFill>
          <a:blip r:embed="rId2"/>
          <a:stretch/>
        </p:blipFill>
        <p:spPr>
          <a:xfrm>
            <a:off x="993600" y="3139920"/>
            <a:ext cx="6583680" cy="3510000"/>
          </a:xfrm>
          <a:prstGeom prst="rect">
            <a:avLst/>
          </a:prstGeom>
          <a:ln w="0">
            <a:noFill/>
          </a:ln>
        </p:spPr>
      </p:pic>
      <p:sp>
        <p:nvSpPr>
          <p:cNvPr id="294" name="Овал 4"/>
          <p:cNvSpPr/>
          <p:nvPr/>
        </p:nvSpPr>
        <p:spPr>
          <a:xfrm>
            <a:off x="2714760" y="3286080"/>
            <a:ext cx="3143160" cy="321480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Подзаголовок 2"/>
          <p:cNvSpPr/>
          <p:nvPr/>
        </p:nvSpPr>
        <p:spPr>
          <a:xfrm>
            <a:off x="322200" y="1797120"/>
            <a:ext cx="864396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45720" tIns="0" bIns="0" anchor="b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Если движение по числовой окружности происходит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по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часовой стрелке, то значения получаются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отрицательным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Овал 7"/>
          <p:cNvSpPr/>
          <p:nvPr/>
        </p:nvSpPr>
        <p:spPr>
          <a:xfrm>
            <a:off x="5791320" y="4838760"/>
            <a:ext cx="126720" cy="127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Овал 8"/>
          <p:cNvSpPr/>
          <p:nvPr/>
        </p:nvSpPr>
        <p:spPr>
          <a:xfrm>
            <a:off x="4254480" y="6451560"/>
            <a:ext cx="127080" cy="127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Овал 9"/>
          <p:cNvSpPr/>
          <p:nvPr/>
        </p:nvSpPr>
        <p:spPr>
          <a:xfrm>
            <a:off x="2679840" y="4826160"/>
            <a:ext cx="126720" cy="12672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Овал 10"/>
          <p:cNvSpPr/>
          <p:nvPr/>
        </p:nvSpPr>
        <p:spPr>
          <a:xfrm>
            <a:off x="4241880" y="3213000"/>
            <a:ext cx="127080" cy="127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TextBox 11"/>
          <p:cNvSpPr/>
          <p:nvPr/>
        </p:nvSpPr>
        <p:spPr>
          <a:xfrm>
            <a:off x="5842080" y="45720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TextBox 12"/>
          <p:cNvSpPr/>
          <p:nvPr/>
        </p:nvSpPr>
        <p:spPr>
          <a:xfrm>
            <a:off x="4013280" y="64882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l-GR" sz="1800" spc="-1" strike="noStrike">
                <a:solidFill>
                  <a:srgbClr val="ffffff"/>
                </a:solidFill>
                <a:latin typeface="Arial"/>
              </a:rPr>
              <a:t>π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TextBox 13"/>
          <p:cNvSpPr/>
          <p:nvPr/>
        </p:nvSpPr>
        <p:spPr>
          <a:xfrm>
            <a:off x="2336760" y="455940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l-GR" sz="1800" spc="-1" strike="noStrike">
                <a:solidFill>
                  <a:srgbClr val="ffffff"/>
                </a:solidFill>
                <a:latin typeface="Arial"/>
              </a:rPr>
              <a:t>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TextBox 14"/>
          <p:cNvSpPr/>
          <p:nvPr/>
        </p:nvSpPr>
        <p:spPr>
          <a:xfrm>
            <a:off x="3962520" y="288288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3</a:t>
            </a:r>
            <a:r>
              <a:rPr b="0" lang="el-GR" sz="1800" spc="-1" strike="noStrike">
                <a:solidFill>
                  <a:srgbClr val="ffffff"/>
                </a:solidFill>
                <a:latin typeface="Arial"/>
              </a:rPr>
              <a:t>π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TextBox 15"/>
          <p:cNvSpPr/>
          <p:nvPr/>
        </p:nvSpPr>
        <p:spPr>
          <a:xfrm>
            <a:off x="5829480" y="4800600"/>
            <a:ext cx="55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2</a:t>
            </a:r>
            <a:r>
              <a:rPr b="0" lang="el-GR" sz="1800" spc="-1" strike="noStrike">
                <a:solidFill>
                  <a:srgbClr val="ffffff"/>
                </a:solidFill>
                <a:latin typeface="Arial"/>
              </a:rPr>
              <a:t>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1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1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2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500"/>
                            </p:stCondLst>
                            <p:childTnLst>
                              <p:par>
                                <p:cTn id="1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500"/>
                            </p:stCondLst>
                            <p:childTnLst>
                              <p:par>
                                <p:cTn id="1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087 0.01852 -0.00156 0.03704 -0.00417 0.05371 C -0.00677 0.07037 -0.01025 0.08496 -0.01528 0.1 C -0.02031 0.11505 -0.02518 0.12894 -0.03472 0.14445 C -0.04427 0.15996 -0.05851 0.17963 -0.07222 0.1926 C -0.08594 0.20556 -0.10052 0.21482 -0.11667 0.22223 C -0.13281 0.22963 -0.16059 0.23449 -0.16945 0.23704 E">
                                      <p:cBhvr>
                                        <p:cTn id="138" dur="2000" fill="hold"/>
                                        <p:tgtEl>
                                          <p:spTgt spid="2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2000"/>
                            </p:stCondLst>
                            <p:childTnLst>
                              <p:par>
                                <p:cTn id="1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2000"/>
                            </p:stCondLst>
                            <p:childTnLst>
                              <p:par>
                                <p:cTn id="1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1753 -0.00069 -0.03489 -0.00116 -0.05416 -0.01111 C -0.07344 -0.02106 -0.09844 -0.03981 -0.11528 -0.05926 C -0.13212 -0.0787 -0.14566 -0.10254 -0.15555 -0.12778 C -0.16545 -0.15301 -0.1717 -0.19259 -0.175 -0.21111 C -0.1783 -0.22963 -0.17673 -0.23426 -0.175 -0.23889 E">
                                      <p:cBhvr>
                                        <p:cTn id="148" dur="2000" fill="hold"/>
                                        <p:tgtEl>
                                          <p:spTgt spid="2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2000"/>
                            </p:stCondLst>
                            <p:childTnLst>
                              <p:par>
                                <p:cTn id="1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2000"/>
                            </p:stCondLst>
                            <p:childTnLst>
                              <p:par>
                                <p:cTn id="1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069 -0.02176 -0.00121 -0.04352 0.00556 -0.06852 C 0.01233 -0.09352 0.0257 -0.12708 0.04028 -0.15 C 0.05486 -0.17292 0.07656 -0.19259 0.09306 -0.20555 C 0.10955 -0.21852 0.12552 -0.22315 0.13889 -0.22778 C 0.15226 -0.23241 0.16285 -0.23287 0.17361 -0.23333 E">
                                      <p:cBhvr>
                                        <p:cTn id="158" dur="2000" fill="hold"/>
                                        <p:tgtEl>
                                          <p:spTgt spid="2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2000"/>
                            </p:stCondLst>
                            <p:childTnLst>
                              <p:par>
                                <p:cTn id="1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2000"/>
                            </p:stCondLst>
                            <p:childTnLst>
                              <p:par>
                                <p:cTn id="1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1563 0.00093 0.03143 0.00208 0.04584 0.00741 C 0.06025 0.01273 0.07344 0.02153 0.08612 0.03148 C 0.09879 0.04144 0.11164 0.05162 0.12223 0.06667 C 0.13282 0.08171 0.14254 0.10162 0.15 0.12222 C 0.15747 0.14283 0.16372 0.17222 0.16667 0.19074 C 0.16962 0.20926 0.16875 0.2213 0.16806 0.23333 E">
                                      <p:cBhvr>
                                        <p:cTn id="168" dur="2000" fill="hold"/>
                                        <p:tgtEl>
                                          <p:spTgt spid="2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2000"/>
                            </p:stCondLst>
                            <p:childTnLst>
                              <p:par>
                                <p:cTn id="1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Заголовок 1" descr=""/>
          <p:cNvPicPr/>
          <p:nvPr/>
        </p:nvPicPr>
        <p:blipFill>
          <a:blip r:embed="rId1"/>
          <a:stretch/>
        </p:blipFill>
        <p:spPr>
          <a:xfrm>
            <a:off x="1066680" y="-122400"/>
            <a:ext cx="8278920" cy="2109960"/>
          </a:xfrm>
          <a:prstGeom prst="rect">
            <a:avLst/>
          </a:prstGeom>
          <a:ln w="0">
            <a:noFill/>
          </a:ln>
        </p:spPr>
      </p:pic>
      <p:sp>
        <p:nvSpPr>
          <p:cNvPr id="306" name="PlaceHolder 1"/>
          <p:cNvSpPr>
            <a:spLocks noGrp="1"/>
          </p:cNvSpPr>
          <p:nvPr>
            <p:ph type="subTitle"/>
          </p:nvPr>
        </p:nvSpPr>
        <p:spPr>
          <a:xfrm>
            <a:off x="239400" y="1587600"/>
            <a:ext cx="8643960" cy="14112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0" bIns="0" anchor="b">
            <a:noAutofit/>
          </a:bodyPr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9e010"/>
                </a:solidFill>
                <a:latin typeface="Arial"/>
              </a:rPr>
              <a:t>Если точка М числовой окружности соответствует числу </a:t>
            </a:r>
            <a:r>
              <a:rPr b="1" i="1" lang="en-US" sz="2000" spc="-1" strike="noStrike">
                <a:solidFill>
                  <a:srgbClr val="69e010"/>
                </a:solidFill>
                <a:latin typeface="Arial"/>
              </a:rPr>
              <a:t>t</a:t>
            </a:r>
            <a:r>
              <a:rPr b="1" i="1" lang="ru-RU" sz="2000" spc="-1" strike="noStrike">
                <a:solidFill>
                  <a:srgbClr val="69e010"/>
                </a:solidFill>
                <a:latin typeface="Arial"/>
              </a:rPr>
              <a:t>, то она соответствует и числу вида </a:t>
            </a:r>
            <a:r>
              <a:rPr b="1" i="1" lang="en-US" sz="2000" spc="-1" strike="noStrike">
                <a:solidFill>
                  <a:srgbClr val="69e010"/>
                </a:solidFill>
                <a:latin typeface="Arial"/>
              </a:rPr>
              <a:t>t </a:t>
            </a:r>
            <a:r>
              <a:rPr b="1" i="1" lang="ru-RU" sz="2000" spc="-1" strike="noStrike">
                <a:solidFill>
                  <a:srgbClr val="69e010"/>
                </a:solidFill>
                <a:latin typeface="Arial"/>
              </a:rPr>
              <a:t>+ 2πk, где параметр k – любое целое число (k</a:t>
            </a:r>
            <a:r>
              <a:rPr b="0" lang="ru-RU" sz="2000" spc="-1" strike="noStrike">
                <a:solidFill>
                  <a:srgbClr val="69e01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69e010"/>
                </a:solidFill>
                <a:latin typeface="Arial"/>
              </a:rPr>
              <a:t>є</a:t>
            </a:r>
            <a:r>
              <a:rPr b="1" i="1" lang="ru-RU" sz="2000" spc="-1" strike="noStrike">
                <a:solidFill>
                  <a:srgbClr val="69e01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69e010"/>
                </a:solidFill>
                <a:latin typeface="Arial"/>
              </a:rPr>
              <a:t>Z</a:t>
            </a:r>
            <a:r>
              <a:rPr b="1" i="1" lang="ru-RU" sz="2000" spc="-1" strike="noStrike">
                <a:solidFill>
                  <a:srgbClr val="69e01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7" name="Chart 1" descr=""/>
          <p:cNvPicPr/>
          <p:nvPr/>
        </p:nvPicPr>
        <p:blipFill>
          <a:blip r:embed="rId2"/>
          <a:stretch/>
        </p:blipFill>
        <p:spPr>
          <a:xfrm>
            <a:off x="1494000" y="3425760"/>
            <a:ext cx="6229080" cy="3224160"/>
          </a:xfrm>
          <a:prstGeom prst="rect">
            <a:avLst/>
          </a:prstGeom>
          <a:ln w="0">
            <a:noFill/>
          </a:ln>
        </p:spPr>
      </p:pic>
      <p:sp>
        <p:nvSpPr>
          <p:cNvPr id="308" name="Овал 4"/>
          <p:cNvSpPr/>
          <p:nvPr/>
        </p:nvSpPr>
        <p:spPr>
          <a:xfrm>
            <a:off x="3143160" y="3571920"/>
            <a:ext cx="2928960" cy="292896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Овал 5"/>
          <p:cNvSpPr/>
          <p:nvPr/>
        </p:nvSpPr>
        <p:spPr>
          <a:xfrm>
            <a:off x="5572080" y="3929040"/>
            <a:ext cx="142920" cy="14292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Овал 7"/>
          <p:cNvSpPr/>
          <p:nvPr/>
        </p:nvSpPr>
        <p:spPr>
          <a:xfrm>
            <a:off x="5572080" y="3929040"/>
            <a:ext cx="142920" cy="142920"/>
          </a:xfrm>
          <a:prstGeom prst="ellipse">
            <a:avLst/>
          </a:prstGeom>
          <a:solidFill>
            <a:srgbClr val="69e01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TextBox 9"/>
          <p:cNvSpPr/>
          <p:nvPr/>
        </p:nvSpPr>
        <p:spPr>
          <a:xfrm>
            <a:off x="5643720" y="3714840"/>
            <a:ext cx="97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(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TextBox 11"/>
          <p:cNvSpPr/>
          <p:nvPr/>
        </p:nvSpPr>
        <p:spPr>
          <a:xfrm>
            <a:off x="5664240" y="3720960"/>
            <a:ext cx="13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(t + 2</a:t>
            </a:r>
            <a:r>
              <a:rPr b="0" lang="el-GR" sz="1800" spc="-1" strike="noStrike">
                <a:solidFill>
                  <a:srgbClr val="ffffff"/>
                </a:solidFill>
                <a:latin typeface="Arial"/>
              </a:rPr>
              <a:t>π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3000">
    <p:wheel spokes="1"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8" dur="500"/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7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2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0.00185 C -0.00764 -0.01389 -0.01233 -0.02129 -0.01945 -0.02777 C -0.02656 -0.03426 -0.03559 -0.03634 -0.04306 -0.04074 C -0.05052 -0.04514 -0.05677 -0.05069 -0.06389 -0.0537 C -0.07101 -0.05671 -0.07847 -0.05764 -0.08611 -0.05926 C -0.09375 -0.06088 -0.10191 -0.06227 -0.10972 -0.06296 C -0.11754 -0.06365 -0.12084 -0.06643 -0.13334 -0.06296 C -0.14584 -0.05949 -0.17136 -0.05069 -0.18472 -0.04259 C -0.19809 -0.03449 -0.20486 -0.02523 -0.21389 -0.01481 C -0.22292 -0.00439 -0.23177 0.00834 -0.23889 0.02037 C -0.24601 0.03241 -0.25209 0.04422 -0.25695 0.05741 C -0.26181 0.07061 -0.26545 0.08264 -0.26806 0.1 C -0.27066 0.11736 -0.27309 0.13959 -0.27222 0.16111 C -0.27136 0.18264 -0.26754 0.21088 -0.2625 0.22963 C -0.25747 0.24838 -0.24983 0.25996 -0.24167 0.27408 C -0.23351 0.2882 -0.22656 0.30186 -0.21389 0.31482 C -0.20122 0.32778 -0.18212 0.34352 -0.16528 0.35186 C -0.14844 0.36019 -0.13212 0.36574 -0.1125 0.36482 C -0.09288 0.36389 -0.06736 0.35834 -0.04722 0.3463 C -0.02709 0.33426 -0.00643 0.31412 0.00833 0.2926 C 0.02309 0.27107 0.03489 0.24167 0.04166 0.21667 C 0.04844 0.19167 0.04913 0.16598 0.04861 0.1426 C 0.04809 0.11922 0.04253 0.09236 0.03889 0.07593 C 0.03524 0.05949 0.03246 0.05672 0.02639 0.04445 C 0.02031 0.03218 0.00764 0.01019 2.5E-006 -0.00185 Z">
                                      <p:cBhvr>
                                        <p:cTn id="200" dur="2000" fill="hold"/>
                                        <p:tgtEl>
                                          <p:spTgt spid="3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000"/>
                            </p:stCondLst>
                            <p:childTnLst>
                              <p:par>
                                <p:cTn id="20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Заголовок 1" descr=""/>
          <p:cNvPicPr/>
          <p:nvPr/>
        </p:nvPicPr>
        <p:blipFill>
          <a:blip r:embed="rId1"/>
          <a:stretch/>
        </p:blipFill>
        <p:spPr>
          <a:xfrm>
            <a:off x="1066680" y="-122400"/>
            <a:ext cx="8278920" cy="2109960"/>
          </a:xfrm>
          <a:prstGeom prst="rect">
            <a:avLst/>
          </a:prstGeom>
          <a:ln w="0">
            <a:noFill/>
          </a:ln>
        </p:spPr>
      </p:pic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250560" y="1752480"/>
            <a:ext cx="8715240" cy="10908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0" bIns="0" anchor="b">
            <a:noAutofit/>
          </a:bodyPr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262626"/>
                </a:solidFill>
                <a:uFillTx/>
                <a:latin typeface="Arial"/>
              </a:rPr>
              <a:t>Определение.</a:t>
            </a:r>
            <a:r>
              <a:rPr b="0" lang="ru-RU" sz="2000" spc="-1" strike="noStrike">
                <a:solidFill>
                  <a:srgbClr val="262626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Если точка М числовой окружности соответствует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числу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, то абсциссу точки М называют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косинусом числа</a:t>
            </a:r>
            <a:r>
              <a:rPr b="1" i="1" lang="ru-RU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fff00"/>
                </a:solidFill>
                <a:latin typeface="Arial"/>
              </a:rPr>
              <a:t>t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и обозначают </a:t>
            </a:r>
            <a:r>
              <a:rPr b="0" lang="en-US" sz="2000" spc="-1" strike="noStrike">
                <a:solidFill>
                  <a:srgbClr val="69e010"/>
                </a:solidFill>
                <a:latin typeface="Arial"/>
              </a:rPr>
              <a:t>cos</a:t>
            </a:r>
            <a:r>
              <a:rPr b="0" lang="ru-RU" sz="2000" spc="-1" strike="noStrike">
                <a:solidFill>
                  <a:srgbClr val="69e01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69e010"/>
                </a:solidFill>
                <a:latin typeface="Arial"/>
              </a:rPr>
              <a:t>t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, а ординату точки М называют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синусом числа </a:t>
            </a:r>
            <a:r>
              <a:rPr b="1" i="1" lang="en-US" sz="2000" spc="-1" strike="noStrike">
                <a:solidFill>
                  <a:srgbClr val="ffff00"/>
                </a:solidFill>
                <a:latin typeface="Arial"/>
              </a:rPr>
              <a:t>t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 обозначают </a:t>
            </a:r>
            <a:r>
              <a:rPr b="0" lang="en-US" sz="2000" spc="-1" strike="noStrike">
                <a:solidFill>
                  <a:srgbClr val="69e010"/>
                </a:solidFill>
                <a:latin typeface="Arial"/>
              </a:rPr>
              <a:t>sin</a:t>
            </a:r>
            <a:r>
              <a:rPr b="0" i="1" lang="en-US" sz="2000" spc="-1" strike="noStrike">
                <a:solidFill>
                  <a:srgbClr val="69e010"/>
                </a:solidFill>
                <a:latin typeface="Arial"/>
              </a:rPr>
              <a:t> t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15" name=""/>
          <p:cNvGraphicFramePr/>
          <p:nvPr/>
        </p:nvGraphicFramePr>
        <p:xfrm>
          <a:off x="285840" y="500040"/>
          <a:ext cx="2786040" cy="1000080"/>
        </p:xfrm>
        <a:graphic>
          <a:graphicData uri="http://schemas.openxmlformats.org/drawingml/2006/table">
            <a:tbl>
              <a:tblPr/>
              <a:tblGrid>
                <a:gridCol w="2786040"/>
              </a:tblGrid>
              <a:tr h="100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Если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(t) = M(x; y),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 = cos t,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 = sin t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e848d"/>
                    </a:solidFill>
                  </a:tcPr>
                </a:tc>
              </a:tr>
            </a:tbl>
          </a:graphicData>
        </a:graphic>
      </p:graphicFrame>
      <p:pic>
        <p:nvPicPr>
          <p:cNvPr id="316" name="Chart 1" descr=""/>
          <p:cNvPicPr/>
          <p:nvPr/>
        </p:nvPicPr>
        <p:blipFill>
          <a:blip r:embed="rId2"/>
          <a:stretch/>
        </p:blipFill>
        <p:spPr>
          <a:xfrm>
            <a:off x="1414440" y="3151080"/>
            <a:ext cx="6583320" cy="3511800"/>
          </a:xfrm>
          <a:prstGeom prst="rect">
            <a:avLst/>
          </a:prstGeom>
          <a:ln w="0">
            <a:noFill/>
          </a:ln>
        </p:spPr>
      </p:pic>
      <p:sp>
        <p:nvSpPr>
          <p:cNvPr id="317" name="Овал 5"/>
          <p:cNvSpPr/>
          <p:nvPr/>
        </p:nvSpPr>
        <p:spPr>
          <a:xfrm>
            <a:off x="3146400" y="3298680"/>
            <a:ext cx="3143160" cy="321480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Овал 6"/>
          <p:cNvSpPr/>
          <p:nvPr/>
        </p:nvSpPr>
        <p:spPr>
          <a:xfrm>
            <a:off x="3645000" y="3657600"/>
            <a:ext cx="127080" cy="1015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TextBox 7"/>
          <p:cNvSpPr/>
          <p:nvPr/>
        </p:nvSpPr>
        <p:spPr>
          <a:xfrm>
            <a:off x="3263760" y="3314880"/>
            <a:ext cx="72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 (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Прямая соединительная линия 22"/>
          <p:cNvSpPr/>
          <p:nvPr/>
        </p:nvSpPr>
        <p:spPr>
          <a:xfrm flipH="1">
            <a:off x="3706560" y="3760920"/>
            <a:ext cx="3240" cy="1143000"/>
          </a:xfrm>
          <a:prstGeom prst="line">
            <a:avLst/>
          </a:prstGeom>
          <a:ln w="2844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Прямая соединительная линия 28"/>
          <p:cNvSpPr/>
          <p:nvPr/>
        </p:nvSpPr>
        <p:spPr>
          <a:xfrm>
            <a:off x="3772080" y="3708360"/>
            <a:ext cx="952200" cy="1800"/>
          </a:xfrm>
          <a:prstGeom prst="line">
            <a:avLst/>
          </a:prstGeom>
          <a:ln w="2844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Прямая соединительная линия 32"/>
          <p:cNvSpPr/>
          <p:nvPr/>
        </p:nvSpPr>
        <p:spPr>
          <a:xfrm>
            <a:off x="3708360" y="4902120"/>
            <a:ext cx="101592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Прямая соединительная линия 36"/>
          <p:cNvSpPr/>
          <p:nvPr/>
        </p:nvSpPr>
        <p:spPr>
          <a:xfrm flipH="1">
            <a:off x="4722480" y="3697200"/>
            <a:ext cx="3240" cy="12067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TextBox 37"/>
          <p:cNvSpPr/>
          <p:nvPr/>
        </p:nvSpPr>
        <p:spPr>
          <a:xfrm>
            <a:off x="3848040" y="4838760"/>
            <a:ext cx="74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9e010"/>
                </a:solidFill>
                <a:latin typeface="Arial"/>
              </a:rPr>
              <a:t>cos </a:t>
            </a:r>
            <a:r>
              <a:rPr b="0" i="1" lang="en-US" sz="1800" spc="-1" strike="noStrike">
                <a:solidFill>
                  <a:srgbClr val="69e01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TextBox 38"/>
          <p:cNvSpPr/>
          <p:nvPr/>
        </p:nvSpPr>
        <p:spPr>
          <a:xfrm>
            <a:off x="4699080" y="4051440"/>
            <a:ext cx="85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9e010"/>
                </a:solidFill>
                <a:latin typeface="Arial"/>
              </a:rPr>
              <a:t>sin </a:t>
            </a:r>
            <a:r>
              <a:rPr b="0" i="1" lang="en-US" sz="1800" spc="-1" strike="noStrike">
                <a:solidFill>
                  <a:srgbClr val="69e01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3000">
    <p:wheel spokes="1"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2" dur="500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5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1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24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500"/>
                            </p:stCondLst>
                            <p:childTnLst>
                              <p:par>
                                <p:cTn id="2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4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500"/>
                            </p:stCondLst>
                            <p:childTnLst>
                              <p:par>
                                <p:cTn id="2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1000"/>
                            </p:stCondLst>
                            <p:childTnLst>
                              <p:par>
                                <p:cTn id="2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Заголовок 1" descr=""/>
          <p:cNvPicPr/>
          <p:nvPr/>
        </p:nvPicPr>
        <p:blipFill>
          <a:blip r:embed="rId1"/>
          <a:stretch/>
        </p:blipFill>
        <p:spPr>
          <a:xfrm>
            <a:off x="1066680" y="-122400"/>
            <a:ext cx="8278920" cy="2109960"/>
          </a:xfrm>
          <a:prstGeom prst="rect">
            <a:avLst/>
          </a:prstGeom>
          <a:ln w="0">
            <a:noFill/>
          </a:ln>
        </p:spPr>
      </p:pic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285480" y="1857240"/>
            <a:ext cx="871524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0" bIns="0" anchor="b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262626"/>
                </a:solidFill>
                <a:uFillTx/>
                <a:latin typeface="Arial"/>
              </a:rPr>
              <a:t>Свойство 1.</a:t>
            </a:r>
            <a:r>
              <a:rPr b="0" lang="ru-RU" sz="2000" spc="-1" strike="noStrike">
                <a:solidFill>
                  <a:srgbClr val="262626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ля любого числа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справедливы равенства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262626"/>
                </a:solidFill>
                <a:uFillTx/>
                <a:latin typeface="Arial"/>
              </a:rPr>
              <a:t>Свойство </a:t>
            </a:r>
            <a:r>
              <a:rPr b="1" i="1" lang="en-US" sz="2000" spc="-1" strike="noStrike" u="sng">
                <a:solidFill>
                  <a:srgbClr val="262626"/>
                </a:solidFill>
                <a:uFillTx/>
                <a:latin typeface="Arial"/>
              </a:rPr>
              <a:t>2</a:t>
            </a:r>
            <a:r>
              <a:rPr b="1" i="1" lang="ru-RU" sz="2000" spc="-1" strike="noStrike" u="sng">
                <a:solidFill>
                  <a:srgbClr val="262626"/>
                </a:solidFill>
                <a:uFillTx/>
                <a:latin typeface="Arial"/>
              </a:rPr>
              <a:t>.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Для любого числа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справедливы равенства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262626"/>
                </a:solidFill>
                <a:uFillTx/>
                <a:latin typeface="Arial"/>
              </a:rPr>
              <a:t>Свойство </a:t>
            </a:r>
            <a:r>
              <a:rPr b="1" i="1" lang="en-US" sz="2000" spc="-1" strike="noStrike" u="sng">
                <a:solidFill>
                  <a:srgbClr val="262626"/>
                </a:solidFill>
                <a:uFillTx/>
                <a:latin typeface="Arial"/>
              </a:rPr>
              <a:t>3</a:t>
            </a:r>
            <a:r>
              <a:rPr b="1" i="1" lang="ru-RU" sz="2000" spc="-1" strike="noStrike" u="sng">
                <a:solidFill>
                  <a:srgbClr val="262626"/>
                </a:solidFill>
                <a:uFillTx/>
                <a:latin typeface="Arial"/>
              </a:rPr>
              <a:t>.</a:t>
            </a:r>
            <a:r>
              <a:rPr b="0" lang="ru-RU" sz="2000" spc="-1" strike="noStrike">
                <a:solidFill>
                  <a:srgbClr val="262626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ля любого числа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справедливы равенства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28" name=""/>
          <p:cNvGraphicFramePr/>
          <p:nvPr/>
        </p:nvGraphicFramePr>
        <p:xfrm>
          <a:off x="3429000" y="2428920"/>
          <a:ext cx="2428920" cy="639720"/>
        </p:xfrm>
        <a:graphic>
          <a:graphicData uri="http://schemas.openxmlformats.org/drawingml/2006/table">
            <a:tbl>
              <a:tblPr/>
              <a:tblGrid>
                <a:gridCol w="24289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n (-</a:t>
                      </a: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) = -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n </a:t>
                      </a: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;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s (-</a:t>
                      </a: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) = cos </a:t>
                      </a: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e848d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29" name=""/>
          <p:cNvGraphicFramePr/>
          <p:nvPr/>
        </p:nvGraphicFramePr>
        <p:xfrm>
          <a:off x="3429000" y="3643200"/>
          <a:ext cx="2428920" cy="639720"/>
        </p:xfrm>
        <a:graphic>
          <a:graphicData uri="http://schemas.openxmlformats.org/drawingml/2006/table">
            <a:tbl>
              <a:tblPr/>
              <a:tblGrid>
                <a:gridCol w="24289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n (</a:t>
                      </a: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</a:t>
                      </a:r>
                      <a:r>
                        <a:rPr b="1" i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+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πk) = sin</a:t>
                      </a: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t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,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s (</a:t>
                      </a: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</a:t>
                      </a:r>
                      <a:r>
                        <a:rPr b="1" i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+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πk) = cos </a:t>
                      </a: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e848d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30" name=""/>
          <p:cNvGraphicFramePr/>
          <p:nvPr/>
        </p:nvGraphicFramePr>
        <p:xfrm>
          <a:off x="3429000" y="5143680"/>
          <a:ext cx="2428920" cy="642600"/>
        </p:xfrm>
        <a:graphic>
          <a:graphicData uri="http://schemas.openxmlformats.org/drawingml/2006/table">
            <a:tbl>
              <a:tblPr/>
              <a:tblGrid>
                <a:gridCol w="24289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n (</a:t>
                      </a: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</a:t>
                      </a:r>
                      <a:r>
                        <a:rPr b="1" i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+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el-GR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π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) = -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n </a:t>
                      </a: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;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s (</a:t>
                      </a: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</a:t>
                      </a:r>
                      <a:r>
                        <a:rPr b="1" i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+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el-GR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π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) = -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s </a:t>
                      </a: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e848d"/>
                    </a:solidFill>
                  </a:tcPr>
                </a:tc>
              </a:tr>
            </a:tbl>
          </a:graphicData>
        </a:graphic>
      </p:graphicFrame>
    </p:spTree>
  </p:cSld>
  <p:transition advTm="3000">
    <p:wheel spokes="1"/>
  </p:transition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8" dur="500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1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6" dur="500"/>
                                        <p:tgtEl>
                                          <p:spTgt spid="3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9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4" dur="500"/>
                                        <p:tgtEl>
                                          <p:spTgt spid="3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7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1T09:34:00Z</dcterms:created>
  <dc:creator>HP</dc:creator>
  <dc:description/>
  <dc:language>en-US</dc:language>
  <cp:lastModifiedBy>Мамонтовы</cp:lastModifiedBy>
  <dcterms:modified xsi:type="dcterms:W3CDTF">2011-05-08T11:26:08Z</dcterms:modified>
  <cp:revision>138</cp:revision>
  <dc:subject/>
  <dc:title>Определение числовой функции и способы ее задания</dc:title>
</cp:coreProperties>
</file>